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958C-FBB5-41FB-B6BC-941EF51982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données de lemmatisation attachées à ce texte ont été récupér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peut effectuer une recherche à partir d'un lemme, d'une forme ou d'une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partir de la concordance, on peut appeler le contexte des formes obten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sultats en mai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ord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 g. à dr.: lemme,  contexte (5 formes) en aval,  forme recherchée, contexte (5 formes) en amont, référ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mple de recherche des formes du lemme du verbe “dire” (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قال يقول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lemmatisé exhausti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 racines sont classées par ordre alphabé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 lemmes sont classés sous les racines selon un ordre lié à la nature (verbes, puis noms, puis parti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 formes du texte sont classées par ordre alphabétique, sous leur le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férences: oeuvre, chapitre, lig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texte, à l'origine en Nisus  pour Mac, a été transféré en Word (Windows), puis exporté en .txt et traité sous Unitex (.sn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B0E-A081-4B48-8F14-5DA030DF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1977-7655-48C2-9C99-7A0B3A04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5CC-F863-411D-9F39-F7D3DB54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2CEA-10B6-46AF-954F-022A8C52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ADE-976F-42A0-BC1A-2E819A9E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E55-8A35-42E8-B1AB-2D11286F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DF1-B7C8-4D80-A51D-4CCE033F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2E9-A935-4F68-B779-E14911A8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511-A52F-4C47-8540-7C661B4F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CCF-75F7-4B88-A69B-F3F6F9C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D0E-4BD7-4EFE-86BF-C163EC4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6E7-6DF7-4179-869E-28FC2FC3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3060-3104-43A5-B1E9-2ED5D73DDC3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200" y="859320"/>
            <a:ext cx="7581960" cy="506304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0000"/>
                </a:solidFill>
                <a:latin typeface="Arial Unicode MS"/>
                <a:ea typeface="Arial Unicode MS"/>
              </a:rPr>
              <a:t>Traitement automat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0000"/>
                </a:solidFill>
                <a:latin typeface="Arial Unicode MS"/>
                <a:ea typeface="Arial Unicode MS"/>
              </a:rPr>
              <a:t>du grec ancien et de l’arabe non clas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0000"/>
                </a:solidFill>
                <a:latin typeface="Arial Unicode MS"/>
                <a:ea typeface="Arial Unicode MS"/>
              </a:rPr>
              <a:t>à l’Institut orientaliste de l’U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0000"/>
                </a:solidFill>
                <a:latin typeface="Arial Unicode MS"/>
                <a:ea typeface="Arial Unicode MS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urent Kevers (kevers@tedm.ucl.ac.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stien Kindt (kindt@ori.ucl.ac.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urence Tuerlinckx (tuerlinckx@ori.ucl.ac.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.C.L. – Institut orienta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ournée ATALA langues anc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is, 21 mai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lemme, forme. code d’analyse + ra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24000" y="1125360"/>
            <a:ext cx="8351640" cy="5543640"/>
            <a:chOff x="324000" y="1125360"/>
            <a:chExt cx="8351640" cy="554364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324000" y="1125360"/>
              <a:ext cx="835164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324000" y="1125360"/>
              <a:ext cx="8351640" cy="554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recherche des noms &lt;N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4000" y="1557360"/>
            <a:ext cx="8424720" cy="5111640"/>
            <a:chOff x="324000" y="1557360"/>
            <a:chExt cx="8424720" cy="511164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324000" y="1557360"/>
              <a:ext cx="842472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 txBox="1"/>
            <p:nvPr/>
          </p:nvSpPr>
          <p:spPr>
            <a:xfrm>
              <a:off x="324000" y="1557360"/>
              <a:ext cx="8424720" cy="511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Concordance des noms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4200" y="1386000"/>
            <a:ext cx="8929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la forme dans son contex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6000" cy="5732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411280" y="3860640"/>
            <a:ext cx="503280" cy="360360"/>
          </a:xfrm>
          <a:prstGeom prst="ellipse">
            <a:avLst/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Le géorgien sous UNIT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forme, lemme. code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893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recherche des verbes &lt;V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Concordance des verbes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6000" y="1125360"/>
            <a:ext cx="892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la forme dans son contex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3860640"/>
            <a:ext cx="503280" cy="360360"/>
          </a:xfrm>
          <a:prstGeom prst="ellipse">
            <a:avLst/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820000" cy="5616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56000" y="4076640"/>
            <a:ext cx="792000" cy="503280"/>
          </a:xfrm>
          <a:prstGeom prst="ellipse">
            <a:avLst/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4680" y="1513440"/>
            <a:ext cx="733428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00000"/>
                </a:solidFill>
                <a:latin typeface="Arial"/>
              </a:rPr>
              <a:t>Traitement automat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00000"/>
                </a:solidFill>
                <a:latin typeface="Arial"/>
              </a:rPr>
              <a:t>du grec ancien et de l’arabe non clas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00000"/>
                </a:solidFill>
                <a:latin typeface="Arial"/>
              </a:rPr>
              <a:t>à l’Institut orientaliste de l’U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urent Kevers (kevers@tedm.ucl.ac.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stien Kindt (kindt@ori.ucl.ac.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urence Tuerlinckx (tuerlinckx@ori.ucl.ac.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.C.L. – Institut orienta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is, 21 mai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1440" y="5805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08360" y="548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00000"/>
                </a:solidFill>
                <a:latin typeface="Arial"/>
              </a:rPr>
              <a:t>2. Ar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324080"/>
            <a:ext cx="813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00000"/>
                </a:solidFill>
                <a:latin typeface="Arial"/>
              </a:rPr>
              <a:t>4.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hesa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21000 formes graphiques aggluti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2000 formes sépar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3500  le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cord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éfé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terrogeables à partir du lemme ou de la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18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08360" y="548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00000"/>
                </a:solidFill>
                <a:latin typeface="Arial"/>
              </a:rPr>
              <a:t>2. Ar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32408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00000"/>
                </a:solidFill>
                <a:latin typeface="Arial"/>
              </a:rPr>
              <a:t>4. 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Thesau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21000 formes graphiques aggluti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32000 formes sépar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3500  le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oncord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réfé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interrogeables à partir du lemme ou de la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dex lemmat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00000"/>
                </a:solidFill>
                <a:latin typeface="Arial"/>
              </a:rPr>
              <a:t>Index lemmati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51320" y="765000"/>
            <a:ext cx="4680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لو / عل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َلآ يَعْلُو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1a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يعلو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27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6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تَعَالَى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6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تعالى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27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4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ُلْوِيٌّ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QR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العلويّ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27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7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أَعْلَى ج أَعَالٍ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Q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اعلا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27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5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َلَى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 (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لى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01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1,11; 3,2; 6,11; 6,16; 7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27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2,12; 2,13; 2,18; 3,2; 3,7; 4,7; 5,10; 6,3; 6,8; 7,10; 7,16; 9,1; 10,1; 10,2; 10,6; 10,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ليك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27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لينا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27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2,10; 7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ليه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01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1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ليها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01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7,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وعلى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27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2,9; 10,1; 10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م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عُمْرٌ ج أَعْمَارٌ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ar-SA" sz="12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لعمري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i="1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atio 27</a:t>
            </a:r>
            <a:r>
              <a:rPr b="0" lang="fr-BE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: 9,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981000"/>
            <a:ext cx="936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98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050560" y="1459080"/>
            <a:ext cx="129708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3680" y="15908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a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000" y="1639800"/>
            <a:ext cx="1511640" cy="128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411280" y="2131920"/>
            <a:ext cx="1368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411280" y="2637000"/>
            <a:ext cx="136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11280" y="3068640"/>
            <a:ext cx="136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4040" y="2876400"/>
            <a:ext cx="30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emm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+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+ nbre d’occur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268000" y="3213000"/>
            <a:ext cx="151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4834080"/>
            <a:ext cx="21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orm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+ réfé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556000" y="3860640"/>
            <a:ext cx="1728720" cy="9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555640" y="4627440"/>
            <a:ext cx="187308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556000" y="508464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56000" y="5084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556000" y="4834080"/>
            <a:ext cx="172872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627280" y="530064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51320" y="765000"/>
            <a:ext cx="4692600" cy="590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708360" y="548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00000"/>
                </a:solidFill>
                <a:latin typeface="Arial"/>
              </a:rPr>
              <a:t>2. Ar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32408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00000"/>
                </a:solidFill>
                <a:latin typeface="Arial"/>
              </a:rPr>
              <a:t>5. Développ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aiblesses du systè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anque de souplesse, manque d’automatis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&gt; intégrer cette base de donnée dans un système plus vaste, mieux adapté au TAL: UNI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19640" y="4752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00000"/>
                </a:solidFill>
                <a:latin typeface="Arial"/>
              </a:rPr>
              <a:t>3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280" y="1125360"/>
            <a:ext cx="88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jets multiling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=&gt; intégrer toutes les langues dans un même système: UNI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Grec ancien sous UNITEX (cfr 2</a:t>
            </a:r>
            <a:r>
              <a:rPr b="0" lang="fr-BE" sz="2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par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ssais positifs pour l’ar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dé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ais aussi pour le géorg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(dé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 bientôt le syria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t un jour l’armén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Démonstration</a:t>
            </a:r>
            <a:br>
              <a:rPr sz="3600"/>
            </a:br>
            <a:r>
              <a:rPr b="0" lang="fr-FR" sz="3600" spc="-1" strike="noStrike">
                <a:solidFill>
                  <a:srgbClr val="f00000"/>
                </a:solidFill>
                <a:latin typeface="Arial"/>
              </a:rPr>
              <a:t>arabe et géorgien sous UNITEX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7984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00000"/>
                </a:solidFill>
                <a:latin typeface="Arial"/>
              </a:rPr>
              <a:t>L’arabe sous UNIT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68360" y="1125360"/>
            <a:ext cx="8229600" cy="5445360"/>
            <a:chOff x="468360" y="1125360"/>
            <a:chExt cx="8229600" cy="544536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68360" y="1125360"/>
              <a:ext cx="8229600" cy="544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 txBox="1"/>
            <p:nvPr/>
          </p:nvSpPr>
          <p:spPr>
            <a:xfrm>
              <a:off x="468360" y="1125360"/>
              <a:ext cx="8229600" cy="544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9:47:20Z</dcterms:created>
  <dc:creator>bastien</dc:creator>
  <dc:description/>
  <dc:language>en-US</dc:language>
  <cp:lastModifiedBy>minel</cp:lastModifiedBy>
  <dcterms:modified xsi:type="dcterms:W3CDTF">2005-07-01T15:57:54Z</dcterms:modified>
  <cp:revision>25</cp:revision>
  <dc:subject/>
  <dc:title>Diapositive 1</dc:title>
</cp:coreProperties>
</file>