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AF00-47B9-42A3-AEA7-60C7D4A1A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5DA7-3EAD-4FBB-BC6B-B71AF5F44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213A-9B0D-45D3-934C-D4D48EE8D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0663-6E50-471E-87FF-F555F9B239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A80E-4074-4ED5-BB11-84DEEA9742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10CB-2567-4C94-B84C-BE4217D56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4629-03DB-47C6-A907-F567A697F3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8EAB-1A1D-4DD6-9D43-DFCB56989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30CF1-E371-4933-BEAE-4812C4CD7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3E01-FBF8-41DE-B510-9C19F0819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9FED-FA77-4461-A358-2434A0A02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BDCB-22B9-4374-9D96-B1498937A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933960" y="228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675E-A71E-4577-8704-5C01C7A62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948120" y="228600"/>
            <a:ext cx="45100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Le logiciel HYPERBASE-LATIN : un outil de traitement automatique des textes latins lemmatisés et étiquet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TALA – TAL et langues anciennes, 21 mai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336840" y="187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0"/>
            <a:ext cx="2807640" cy="1005840"/>
            <a:chOff x="380880" y="0"/>
            <a:chExt cx="2807640" cy="1005840"/>
          </a:xfrm>
        </p:grpSpPr>
        <p:grpSp>
          <p:nvGrpSpPr>
            <p:cNvPr id="4" name=""/>
            <p:cNvGrpSpPr/>
            <p:nvPr/>
          </p:nvGrpSpPr>
          <p:grpSpPr>
            <a:xfrm>
              <a:off x="380880" y="0"/>
              <a:ext cx="2684160" cy="1005840"/>
              <a:chOff x="380880" y="0"/>
              <a:chExt cx="2684160" cy="100584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0"/>
                <a:ext cx="2662920" cy="100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380880" y="722160"/>
                <a:ext cx="2684160" cy="206640"/>
              </a:xfrm>
              <a:prstGeom prst="rect">
                <a:avLst/>
              </a:prstGeom>
              <a:solidFill>
                <a:srgbClr val="e1eb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" name=""/>
            <p:cNvSpPr/>
            <p:nvPr/>
          </p:nvSpPr>
          <p:spPr>
            <a:xfrm>
              <a:off x="517680" y="696960"/>
              <a:ext cx="267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UMR 6039, CNRS – ILF – UN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b6dae9"/>
              </a:gs>
              <a:gs pos="100000">
                <a:srgbClr val="128a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33240" y="2057400"/>
            <a:ext cx="782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e logiciel HYPERBASE-LATIN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Un outil de traitement automatique des textes latin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emmatisés et étiqu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15000" y="403848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Sylvie Mel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6110280" y="5400720"/>
            <a:ext cx="2476440" cy="993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157400" y="5397480"/>
            <a:ext cx="2422440" cy="100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7499-083C-41EB-A82E-3C63571F39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79440" y="137160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Les traitements quantita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928880"/>
            <a:ext cx="84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1. Les calculs de spécificités sur codes grammaticaux: l’exemple d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nna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 Tac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spécificités-Annales" descr=""/>
          <p:cNvPicPr/>
          <p:nvPr/>
        </p:nvPicPr>
        <p:blipFill>
          <a:blip r:embed="rId1"/>
          <a:stretch/>
        </p:blipFill>
        <p:spPr>
          <a:xfrm>
            <a:off x="7920" y="2455920"/>
            <a:ext cx="9126720" cy="425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D9BA-C24B-4443-9F91-4839695DF0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79440" y="137160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Les traitements quantita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928880"/>
            <a:ext cx="84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2. Les graphiques: l’exemple de la distribution du subjonctif à travers le cor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graphique-subjonctif" descr=""/>
          <p:cNvPicPr/>
          <p:nvPr/>
        </p:nvPicPr>
        <p:blipFill>
          <a:blip r:embed="rId1"/>
          <a:stretch/>
        </p:blipFill>
        <p:spPr>
          <a:xfrm>
            <a:off x="927000" y="2367000"/>
            <a:ext cx="7264440" cy="43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F378-31B2-419F-A610-52CEAABD42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73680" y="1308240"/>
            <a:ext cx="596448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Les traitements quantitatif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3. Proximité des textes selon leur emploi des modes verb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92520" y="4581360"/>
            <a:ext cx="1836720" cy="673200"/>
          </a:xfrm>
          <a:prstGeom prst="ellipse">
            <a:avLst/>
          </a:prstGeom>
          <a:noFill/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74600" y="2298600"/>
            <a:ext cx="6247080" cy="44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FED0-3D3C-426F-B775-4C9A617752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7280" y="1600200"/>
            <a:ext cx="88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stique linguistique et traitement des catégories grammati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2249640"/>
            <a:ext cx="838044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 caractéristiques distributionnelles spécif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es catégories grammaticales majeures sont toujours largement représentées dans tous les tex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e catégorie à très faible effectif peut présenter des écarts particulièrement pertin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3513240"/>
            <a:ext cx="8304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L’outil TAL devient un aiguillon méthodologique à valeur heuris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 calculer les distances textuelles sur les écarts de fréquence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et non pas sur le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ratio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présence / absence de la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 calculer les distances textuelles à partir d’un classement ordinal des textes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effectué en fonction de la densité de la variable dans chacun d’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12880" y="5122800"/>
            <a:ext cx="767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9960" y="5165640"/>
            <a:ext cx="71992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Référenc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uong X. &amp; Mellet S., 2003. « Mesures de distance grammaticale entre les textes »,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Corpu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2 : 141-166.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5E1D-A0BF-48BC-BAE7-40D2833BCC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78720" y="1371600"/>
            <a:ext cx="49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L’organisation de la base text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7200" y="2003400"/>
            <a:ext cx="708156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6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Deux contraint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La propriété intellectuelle du LASLA qui fournit un corpus clos, non manipulable, difficile à personnaliser et à enrichir en raison de la lourdeur du codage morpho-syntax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Le fonctionnement du logiciel HYPERBASE qui travaille sur des données numériques prétraitées, ce qui suppos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un corpus de référence fi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une partition préalable du cor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7200" y="5073480"/>
            <a:ext cx="741492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Essai de compensatio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La multiplicité des ba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La fonction « choix du corpus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8DEB-427B-42B0-AD1E-7A3435A626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2680" y="13716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52560" y="2031840"/>
            <a:ext cx="69469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n logiciel performant qui a bénéficié d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- 40 ans de travail de lemmatisation au LAS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- 10 ans de développement logiciel à N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52560" y="3390840"/>
            <a:ext cx="78739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ont les performances les plus spécifiques son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- d’associer les traitements quantitatifs aux recherches documentaire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t même de les imbriquer étroi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- d’appliquer tous ses programmes aussi bien aux formes graphiques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qu’aux lemmes et aux codes morpho-syntax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52560" y="5384880"/>
            <a:ext cx="78739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s qui a aussi des limit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le caractère figé des cor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l’unicité du support (PC sous Window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BB47-C63C-4287-B1E0-B1062F38C0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3040" y="137160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 logiciel HYPERBASE-L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2960" y="1928880"/>
            <a:ext cx="8312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Logiciel HYPERBASE,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’exploration documentaire et de traitement quantitatif des grands corpus textuels :</a:t>
            </a:r>
            <a:br>
              <a:rPr sz="2000"/>
            </a:b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initialement conçu pour le français par É. Brunet au sein de l’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MR 6039 BCL (“Bases, Corpus et Langage”, Nic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daptation aux textes de la littérature latine classique :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conçue et coordonnée par S. Mellet, BCL - UMR 603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chiers latin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umérisés et  lemmatisés au Laboratoire d’Analyse Statistique des Langues Anciennes (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LASLA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) de l’Univ. de Liège (J. Denooz, G. Purnell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FD4C-A46E-405A-9822-EFD6EE87AF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60020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0200" y="2085840"/>
            <a:ext cx="711648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atouts de la lemmatisation pour la recherch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ocumentaire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traitements quantitatifs et les calculs statis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calculs de spécific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graphiques de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constitution et exploitation de li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structuration de la base de donné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deux contraint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essai de compen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clusion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1A59-8474-4920-87E6-7D73BC32C7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75840" y="1371600"/>
            <a:ext cx="86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. Les atouts de la lemmatisation pour la recherche document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2960" y="1928880"/>
            <a:ext cx="799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groupement de toutes les formes graphiques relevant d’un même lemme (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fero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tuli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latum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2960" y="3054240"/>
            <a:ext cx="841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vée d’homonymie (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ico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icar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ico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icer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) et désambiguïsatio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de la catégorie grammaticale (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ad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= adverbe ;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ad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= prépos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2960" y="4272120"/>
            <a:ext cx="799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cherche en contexte de catégories grammaticales et de structur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syntax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2960" y="5505480"/>
            <a:ext cx="77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ilité de croiser les critères lexicaux et grammatic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7F249-359D-4387-B5FD-3B280B2216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17520" y="1281240"/>
            <a:ext cx="8325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.1. Regroupement de toutes les formes graphiques relevant d’un même lemme (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fero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lemme%20fero" descr=""/>
          <p:cNvPicPr/>
          <p:nvPr/>
        </p:nvPicPr>
        <p:blipFill>
          <a:blip r:embed="rId1"/>
          <a:stretch/>
        </p:blipFill>
        <p:spPr>
          <a:xfrm>
            <a:off x="1079640" y="1849320"/>
            <a:ext cx="7159320" cy="476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E21E-7F5E-4D8F-AED4-99EC7ABECD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7520" y="1281240"/>
            <a:ext cx="8325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.2. Levée d’homonymie (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dico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dicer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dico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dicar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préposition vs.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adverb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ico" descr=""/>
          <p:cNvPicPr/>
          <p:nvPr/>
        </p:nvPicPr>
        <p:blipFill>
          <a:blip r:embed="rId1"/>
          <a:stretch/>
        </p:blipFill>
        <p:spPr>
          <a:xfrm>
            <a:off x="482760" y="1930320"/>
            <a:ext cx="4564080" cy="1731960"/>
          </a:xfrm>
          <a:prstGeom prst="rect">
            <a:avLst/>
          </a:prstGeom>
          <a:ln w="0">
            <a:noFill/>
          </a:ln>
        </p:spPr>
      </p:pic>
      <p:pic>
        <p:nvPicPr>
          <p:cNvPr id="62" name="ad" descr=""/>
          <p:cNvPicPr/>
          <p:nvPr/>
        </p:nvPicPr>
        <p:blipFill>
          <a:blip r:embed="rId2"/>
          <a:stretch/>
        </p:blipFill>
        <p:spPr>
          <a:xfrm>
            <a:off x="3514680" y="4129200"/>
            <a:ext cx="4778280" cy="183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CE28-25DF-41D5-A238-A5DE15805F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1281240"/>
            <a:ext cx="8325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3. Recherche en contexte de catégories grammaticales et de structures syntaxiq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xemple de requête : pronom relatif + pronom réfléchi + ver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tructure" descr=""/>
          <p:cNvPicPr/>
          <p:nvPr/>
        </p:nvPicPr>
        <p:blipFill>
          <a:blip r:embed="rId1"/>
          <a:stretch/>
        </p:blipFill>
        <p:spPr>
          <a:xfrm>
            <a:off x="1805040" y="2097000"/>
            <a:ext cx="4788000" cy="465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D86B-7638-49F9-BA4D-294D27789E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1281240"/>
            <a:ext cx="8325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3. Recherche en contexte de catégories grammaticales et de structures syntaxiques : résultats de la requête précé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résultat-structure" descr=""/>
          <p:cNvPicPr/>
          <p:nvPr/>
        </p:nvPicPr>
        <p:blipFill>
          <a:blip r:embed="rId1"/>
          <a:stretch/>
        </p:blipFill>
        <p:spPr>
          <a:xfrm>
            <a:off x="1255680" y="2158920"/>
            <a:ext cx="6605640" cy="453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2A00-0EF4-4D53-B704-83E706883C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1281240"/>
            <a:ext cx="8325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4. Croisement de critères 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le lemm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and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ans la structure adverbe interrogatif + adver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tandem" descr=""/>
          <p:cNvPicPr/>
          <p:nvPr/>
        </p:nvPicPr>
        <p:blipFill>
          <a:blip r:embed="rId1"/>
          <a:stretch/>
        </p:blipFill>
        <p:spPr>
          <a:xfrm>
            <a:off x="900000" y="2104920"/>
            <a:ext cx="7589880" cy="444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182E-5727-4C41-AAAD-1ACB0A16F0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09:28:20Z</dcterms:created>
  <dc:creator>longree</dc:creator>
  <dc:description/>
  <dc:language>en-US</dc:language>
  <cp:lastModifiedBy>Anne Deschamps</cp:lastModifiedBy>
  <dcterms:modified xsi:type="dcterms:W3CDTF">2005-06-13T19:26:33Z</dcterms:modified>
  <cp:revision>75</cp:revision>
  <dc:subject/>
  <dc:title>Présentation PowerPoint</dc:title>
</cp:coreProperties>
</file>