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873-C1B1-408D-BC2F-82148971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9FE-874D-47C2-A206-5D3267A1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091-5C1A-4F3F-B70A-ADA8E7B8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723-ED78-4131-8E1B-C2596123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2132-8943-47B7-A2E3-02345DCD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2C58-B324-4EEA-B1B9-187DB00E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304E-A289-433C-9E34-F5DA1678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DDCB-D727-4EE8-96DB-E7B9D210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CAE8-34DA-4A79-A0BD-912BEB50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4F72-B10E-4105-96CE-483817CD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9791-DE7E-4C33-A628-45CA7869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F66-57D6-4C1E-BB6F-E9404991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D797-876D-4F7E-9283-18900AC9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5762-E986-400F-877D-E3F92E2E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9FB8-71E1-4561-AD17-1CDEE815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8401-FDD7-4C22-98DF-C0999FCF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D2CB-243A-41E0-925F-C684F205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48F-B80C-45EE-8171-361D2D7D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71E-248D-46D4-B499-1580743B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00B-37D4-46FD-80FC-9580152A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816-DD3E-4134-855C-3D886771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218-6737-400B-9483-B8FCDBDE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C6A-B4F4-4CA7-A16D-7BE2929B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96D-698D-4BD3-BE39-290D5B09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e271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66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6633"/>
                </a:solidFill>
                <a:latin typeface="Tahoma"/>
              </a:rPr>
              <a:t>10 novembre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66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6633"/>
                </a:solidFill>
                <a:latin typeface="Tahoma"/>
              </a:rPr>
              <a:t>Journée</a:t>
            </a: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 </a:t>
            </a:r>
            <a:r>
              <a:rPr b="0" lang="fr-FR" sz="1200" spc="-1" strike="noStrike">
                <a:solidFill>
                  <a:srgbClr val="006633"/>
                </a:solidFill>
                <a:latin typeface="Tahoma"/>
              </a:rPr>
              <a:t>productivité/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D97B-4653-4E39-B7F5-708F330C1B44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66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6633"/>
                </a:solidFill>
                <a:latin typeface="Tahoma"/>
              </a:rPr>
              <a:t>10 novembre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Journée ATALA productiv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46E1-E8EC-42F4-B057-267706C8CF36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443640" y="476280"/>
            <a:ext cx="2236680" cy="1023840"/>
            <a:chOff x="6443640" y="476280"/>
            <a:chExt cx="2236680" cy="10238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443640" y="476280"/>
              <a:ext cx="22366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516720" y="11253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ff9933"/>
                  </a:solidFill>
                  <a:latin typeface="Tahoma"/>
                </a:rPr>
                <a:t>T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671400" algn="ctr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341360" algn="ctr">
              <a:spcBef>
                <a:spcPts val="499"/>
              </a:spcBef>
              <a:buClr>
                <a:srgbClr val="e271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400" spc="-1" strike="noStrike">
                <a:solidFill>
                  <a:srgbClr val="006633"/>
                </a:solidFill>
                <a:latin typeface="Tahoma"/>
              </a:rPr>
              <a:t>Mesurer l’alternance entre préfixes, en combinant méthodes contrastives et étude empirique </a:t>
            </a:r>
            <a:endParaRPr b="0" lang="en-US" sz="34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81080" y="4114440"/>
            <a:ext cx="6553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ahoma"/>
              </a:rPr>
              <a:t>Le cas des préfixes de pluralité indéterminé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987120" y="548640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6633"/>
                </a:solidFill>
                <a:latin typeface="Tahoma"/>
              </a:rPr>
              <a:t>Bruno Cart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Collecte des données (I)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Collecte de néologism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Néologisme = Corpus  </a:t>
            </a:r>
            <a:r>
              <a:rPr b="0" lang="fr-CH" sz="3000" spc="-1" strike="noStrike">
                <a:solidFill>
                  <a:srgbClr val="000000"/>
                </a:solidFill>
                <a:latin typeface="Tahoma"/>
                <a:ea typeface="Tahoma"/>
              </a:rPr>
              <a:t>̶</a:t>
            </a: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  Lexique de référen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Corpus: La Repubblica, </a:t>
            </a: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(380 millions d’occurrences, (Baroni, Bernardini</a:t>
            </a: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 et al.</a:t>
            </a: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 2004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Lexique (italien): Mmorph </a:t>
            </a: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739 000 formes </a:t>
            </a: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(Bouillon, Lehmann</a:t>
            </a: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 et al.</a:t>
            </a: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 1998)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éologismes construits : préfixes + base 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Tahoma"/>
              </a:rPr>
              <a:t>it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Ensemble de néologismes italiens préfixés en </a:t>
            </a:r>
            <a:r>
              <a:rPr b="0" i="1" lang="fr-CH" sz="3000" spc="-1" strike="noStrike">
                <a:solidFill>
                  <a:srgbClr val="000000"/>
                </a:solidFill>
                <a:latin typeface="Tahoma"/>
              </a:rPr>
              <a:t>multi/pluri/pol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4D3-4899-48CD-9B54-2496F57769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Collecte des données (II)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700" spc="-1" strike="noStrike">
                <a:solidFill>
                  <a:srgbClr val="000000"/>
                </a:solidFill>
                <a:latin typeface="Tahoma"/>
              </a:rPr>
              <a:t>Projection des néologismes en italien, dans l’alternanc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Traduction (semi-)automatique des 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Construction/génération des trois formes possi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3200400"/>
          <a:ext cx="8534520" cy="2620800"/>
        </p:xfrm>
        <a:graphic>
          <a:graphicData uri="http://schemas.openxmlformats.org/drawingml/2006/table">
            <a:tbl>
              <a:tblPr/>
              <a:tblGrid>
                <a:gridCol w="2667240"/>
                <a:gridCol w="5867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specializzazione 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spécialisation, plurispécialisation, polyspécia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religiosa           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religieuse, plurireligieuse, polyreligie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direzionale        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directionnel, pluridirectionnel,  polydirectio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etnico               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ethique, pluriethique, polyeth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linguistico         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linguistique, plurilinguistique, polylinguist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nazionale         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national, plurinational, polyn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954-BA04-484B-8ACA-488C306AFF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Test des données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Corpus du web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Walim (Namer, 2003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Succession de requête sur Yaho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Retour: nombre de pages, un échantillon de contex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A47-CA6B-4F16-8CDE-2D77A3C7C4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6633"/>
                </a:solidFill>
                <a:latin typeface="Tahoma"/>
              </a:rPr>
              <a:t>Format des résultats: tableau de fréquence</a:t>
            </a:r>
            <a:endParaRPr b="0" lang="en-US" sz="34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8059680" y="3722760"/>
            <a:ext cx="6271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8680" y="3722760"/>
            <a:ext cx="1881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oly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4240" y="3722760"/>
            <a:ext cx="784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7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5480" y="3722760"/>
            <a:ext cx="1958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uri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38560" y="3722760"/>
            <a:ext cx="1096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’000’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722760"/>
            <a:ext cx="1881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lti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59680" y="3419640"/>
            <a:ext cx="6271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8680" y="3419640"/>
            <a:ext cx="1881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olylinguis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4240" y="3419640"/>
            <a:ext cx="784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35480" y="3419640"/>
            <a:ext cx="1958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urilinguis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38560" y="3419640"/>
            <a:ext cx="1096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3419640"/>
            <a:ext cx="1881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ltilinguis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59680" y="3116160"/>
            <a:ext cx="6271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78680" y="3116160"/>
            <a:ext cx="1881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olyfactori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4240" y="3116160"/>
            <a:ext cx="7844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35480" y="3116160"/>
            <a:ext cx="19587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urifactori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38560" y="3116160"/>
            <a:ext cx="10969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116160"/>
            <a:ext cx="18813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ltifactori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59680" y="2813040"/>
            <a:ext cx="6271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78680" y="2813040"/>
            <a:ext cx="1881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olyet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4240" y="2813040"/>
            <a:ext cx="784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35480" y="2813040"/>
            <a:ext cx="1958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luriet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38560" y="2813040"/>
            <a:ext cx="1096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813040"/>
            <a:ext cx="1881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multiet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059680" y="2509920"/>
            <a:ext cx="6271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78680" y="2509920"/>
            <a:ext cx="1881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olydirecti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4240" y="2509920"/>
            <a:ext cx="784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5480" y="2509920"/>
            <a:ext cx="1958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uridirecti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38560" y="2509920"/>
            <a:ext cx="1096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8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509920"/>
            <a:ext cx="1881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ltidirecti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59680" y="2206800"/>
            <a:ext cx="6271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78680" y="2206800"/>
            <a:ext cx="1881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olydivisionn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4240" y="2206800"/>
            <a:ext cx="784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35480" y="2206800"/>
            <a:ext cx="1958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luridivisionn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38560" y="2206800"/>
            <a:ext cx="1096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206800"/>
            <a:ext cx="1881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multidivisionn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059680" y="1903320"/>
            <a:ext cx="6271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78680" y="1903320"/>
            <a:ext cx="1881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olyreligie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4240" y="1903320"/>
            <a:ext cx="7844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35480" y="1903320"/>
            <a:ext cx="19587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lurireligie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38560" y="1903320"/>
            <a:ext cx="10969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903320"/>
            <a:ext cx="18813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multireligie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59680" y="1600200"/>
            <a:ext cx="6271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78680" y="1600200"/>
            <a:ext cx="1881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olyspécial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4240" y="1600200"/>
            <a:ext cx="784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5480" y="1600200"/>
            <a:ext cx="1958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lurispécial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38560" y="1600200"/>
            <a:ext cx="1096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1881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multispécial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38560" y="1600200"/>
            <a:ext cx="0" cy="242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35480" y="1600200"/>
            <a:ext cx="0" cy="242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4240" y="1600200"/>
            <a:ext cx="0" cy="242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78680" y="1600200"/>
            <a:ext cx="0" cy="242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59680" y="1600200"/>
            <a:ext cx="0" cy="242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903320"/>
            <a:ext cx="8229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206800"/>
            <a:ext cx="8229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2509920"/>
            <a:ext cx="8229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813040"/>
            <a:ext cx="8229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116160"/>
            <a:ext cx="8229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419640"/>
            <a:ext cx="8229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600200"/>
            <a:ext cx="0" cy="242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86800" y="1600200"/>
            <a:ext cx="0" cy="242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3722760"/>
            <a:ext cx="8229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4025880"/>
            <a:ext cx="8229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Plusieurs comparaisons possibl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Les valeurs nulles sont à prendre avec beaucoup de précau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600200"/>
            <a:ext cx="8229600" cy="304920"/>
          </a:xfrm>
          <a:prstGeom prst="rect">
            <a:avLst/>
          </a:prstGeom>
          <a:noFill/>
          <a:ln w="5076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3733920"/>
            <a:ext cx="8229600" cy="304560"/>
          </a:xfrm>
          <a:prstGeom prst="rect">
            <a:avLst/>
          </a:prstGeom>
          <a:noFill/>
          <a:ln w="5076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2209680"/>
            <a:ext cx="5715000" cy="304920"/>
          </a:xfrm>
          <a:prstGeom prst="rect">
            <a:avLst/>
          </a:prstGeom>
          <a:noFill/>
          <a:ln w="5076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3E0-1AF9-4B13-B23A-B431AC91AA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Analyse (I): ampleur de l’alternance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066680" y="2362320"/>
          <a:ext cx="6299280" cy="912600"/>
        </p:xfrm>
        <a:graphic>
          <a:graphicData uri="http://schemas.openxmlformats.org/drawingml/2006/table">
            <a:tbl>
              <a:tblPr/>
              <a:tblGrid>
                <a:gridCol w="3089160"/>
                <a:gridCol w="321012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s d’alter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ter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.78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7.2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228600" y="3886200"/>
            <a:ext cx="6324480" cy="457200"/>
          </a:xfrm>
          <a:prstGeom prst="wedgeRectCallout">
            <a:avLst>
              <a:gd name="adj1" fmla="val -8009"/>
              <a:gd name="adj2" fmla="val -202430"/>
            </a:avLst>
          </a:prstGeom>
          <a:noFill/>
          <a:ln w="2232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ultiadaptable (1560), pluriadaptable (0), polyadaptable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58C-35BB-4531-8EAF-1C240E260B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Analyse (I): ampleur de l’alternance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447920" y="1981080"/>
          <a:ext cx="6298920" cy="1276560"/>
        </p:xfrm>
        <a:graphic>
          <a:graphicData uri="http://schemas.openxmlformats.org/drawingml/2006/table">
            <a:tbl>
              <a:tblPr/>
              <a:tblGrid>
                <a:gridCol w="3089160"/>
                <a:gridCol w="3209760"/>
              </a:tblGrid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ternance entre 2 formes préfixé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ternance entre 3 formes préfixé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, 5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4,4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04920" y="3733920"/>
            <a:ext cx="2286000" cy="990360"/>
          </a:xfrm>
          <a:prstGeom prst="wedgeRectCallout">
            <a:avLst>
              <a:gd name="adj1" fmla="val 51736"/>
              <a:gd name="adj2" fmla="val -100162"/>
            </a:avLst>
          </a:prstGeom>
          <a:noFill/>
          <a:ln w="2232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luricriminel (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ulticriminel(5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olycriminel (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4114800"/>
            <a:ext cx="2743200" cy="914400"/>
          </a:xfrm>
          <a:prstGeom prst="wedgeRectCallout">
            <a:avLst>
              <a:gd name="adj1" fmla="val 2722"/>
              <a:gd name="adj2" fmla="val -150000"/>
            </a:avLst>
          </a:prstGeom>
          <a:noFill/>
          <a:ln w="2232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olysensoriels (209) multisensoriels(4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lurisensoriels(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406-B95E-45FB-BB87-7B7FCFF417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Analyse (II):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L’alternance semble souvent possible, mais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Est-ce toujours la même 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Est-elle influencée par la qualité du corpus (web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Comment l’analyser 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FBA1-6ABA-45DA-82F9-9695743547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Méthode proposée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Travail sur des doublet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multisensoriels (427) plurisensoriels(38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Calcul d’un « rapport de fréquence » entre chaque form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(427/3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Classement selon le rappor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échelle d’alternance, autour du rapport d’alternance « parfaite » 1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109-E776-4E18-B728-0D0EBD0BCC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Echelle d’alternance: exemple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4952880" y="457200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4419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33720" y="4724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9234200">
            <a:off x="228960" y="30477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artistique (81)/  pluriartistique(44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4419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472428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0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9202400">
            <a:off x="1296000" y="289476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cellulaires (17900)/ pluricellulaires(18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9217400">
            <a:off x="2210400" y="28188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centenaire(391)/pluricentenaire(38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9111200">
            <a:off x="3119400" y="324936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ethique(35)/  pluriethique(27)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472428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0.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4419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14600" y="472428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1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4419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472428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1.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29000" y="4419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9128600">
            <a:off x="4718880" y="2792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directionnel(78000)/pluridirectionnel(16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9006800">
            <a:off x="5865120" y="286596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millionaire(1240000)/ plurimillionaire(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24280" y="47242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469.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4419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8600" y="45720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4572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112727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4419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5410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2 clés de lecture pos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DBC-852B-4D62-AD43-AF39812157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1. Echelle d’alternance: proportions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40384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1911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9234200">
            <a:off x="228960" y="25142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artistique (81)/  pluriartistique(44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41911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0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9202400">
            <a:off x="1296000" y="23616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cellulaires (17900)/ pluricellulaires(18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9217400">
            <a:off x="2210400" y="228528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centenaire(391)/pluricentenaire(38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9111200">
            <a:off x="3119400" y="271584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ethique(35)/  pluriethique(27)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41911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0.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14600" y="41911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1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00400" y="41911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1.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2900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9128600">
            <a:off x="4718880" y="22593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directionnel(78000)/pluridirectionnel(16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9006800">
            <a:off x="5865120" y="233280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millionaire(1240000)/ plurimillionaire(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41911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469.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28600" y="40384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40384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112727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1066680" y="380988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5334120" y="1600200"/>
            <a:ext cx="380880" cy="6477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68840 h 6477120"/>
              <a:gd name="textAreaBottom" fmla="*/ 6308280 h 647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6633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1008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6633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56386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Comparer X et Y permet de caractériser les préférences dans l’alter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6E1-9DD3-4D4D-838D-BE6F2994ED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Cadre général (I)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Traduction automatique des néologismes construi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Formalisation de RCL bilingue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3886200"/>
            <a:ext cx="3078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429000"/>
            <a:ext cx="574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09880"/>
            <a:ext cx="40384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X/NOM =&gt; neo/PREF [Y/NO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Y/NOM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L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Courier New"/>
              </a:rPr>
              <a:t>it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352680"/>
            <a:ext cx="4413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809880"/>
            <a:ext cx="3657600" cy="685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3809880"/>
            <a:ext cx="3962520" cy="685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886200"/>
            <a:ext cx="3962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X’/NOM =&gt; néo/PREF [Y’/NO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Y’/NOM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Courier New"/>
              </a:rPr>
              <a:t>fr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4800600"/>
            <a:ext cx="5334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ù 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/NOM = Y’/N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équivalent de tradu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53341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800" spc="-1" strike="noStrike">
                <a:solidFill>
                  <a:srgbClr val="006633"/>
                </a:solidFill>
                <a:latin typeface="Tahoma"/>
              </a:rPr>
              <a:t>neofascista </a:t>
            </a:r>
            <a:r>
              <a:rPr b="0" i="1" lang="fr-CH" sz="1800" spc="-1" strike="noStrike">
                <a:solidFill>
                  <a:srgbClr val="006633"/>
                </a:solidFill>
                <a:latin typeface="Wingdings"/>
                <a:ea typeface="Wingdings"/>
              </a:rPr>
              <a:t></a:t>
            </a:r>
            <a:r>
              <a:rPr b="0" i="1" lang="fr-CH" sz="1800" spc="-1" strike="noStrike">
                <a:solidFill>
                  <a:srgbClr val="006633"/>
                </a:solidFill>
                <a:latin typeface="Tahoma"/>
              </a:rPr>
              <a:t> néofasci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39A-0E0B-47A6-894E-F7D2708E85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Préférence dans l’alternance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6400" y="48769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800" spc="-1" strike="noStrike">
                <a:solidFill>
                  <a:srgbClr val="000000"/>
                </a:solidFill>
                <a:latin typeface="Tahoma"/>
              </a:rPr>
              <a:t>pluri 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semble toujours moins représenté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3520" y="1371600"/>
          <a:ext cx="8305560" cy="1822320"/>
        </p:xfrm>
        <a:graphic>
          <a:graphicData uri="http://schemas.openxmlformats.org/drawingml/2006/table">
            <a:tbl>
              <a:tblPr/>
              <a:tblGrid>
                <a:gridCol w="1676160"/>
                <a:gridCol w="3276720"/>
                <a:gridCol w="3352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éférence pour le 1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éférence pour le 2</a:t>
                      </a:r>
                      <a:r>
                        <a:rPr b="0" lang="fr-FR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è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/plu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.7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2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/po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.7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.2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uri/po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.3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.6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3200400" y="1905120"/>
            <a:ext cx="1219320" cy="761760"/>
          </a:xfrm>
          <a:prstGeom prst="rect">
            <a:avLst/>
          </a:prstGeom>
          <a:noFill/>
          <a:ln w="2556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2362320"/>
            <a:ext cx="1218960" cy="761760"/>
          </a:xfrm>
          <a:prstGeom prst="rect">
            <a:avLst/>
          </a:prstGeom>
          <a:noFill/>
          <a:ln w="2556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62240" y="2781360"/>
            <a:ext cx="1219320" cy="380880"/>
          </a:xfrm>
          <a:prstGeom prst="rect">
            <a:avLst/>
          </a:prstGeom>
          <a:noFill/>
          <a:ln w="2556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15280" y="1879560"/>
            <a:ext cx="1218960" cy="380880"/>
          </a:xfrm>
          <a:prstGeom prst="rect">
            <a:avLst/>
          </a:prstGeom>
          <a:noFill/>
          <a:ln w="2556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4920" y="3505320"/>
            <a:ext cx="8839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multi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est toujours préfé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4267080"/>
            <a:ext cx="8229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o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st tout de même fortemen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B84-7044-4BE3-9436-9E9A066E0F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6633"/>
                </a:solidFill>
                <a:latin typeface="Tahoma"/>
              </a:rPr>
              <a:t>2. Echelle d’alternance: fenêtres d’analyse</a:t>
            </a:r>
            <a:endParaRPr b="0" lang="en-US" sz="34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40384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41911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9234200">
            <a:off x="228960" y="25142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artistique (81)/  pluriartistique(44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41911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0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9202400">
            <a:off x="1296000" y="23616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cellulaires (17900)/ pluricellulaires(18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9217400">
            <a:off x="2210400" y="228528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centenaire(391)/pluricentenaire(38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9111200">
            <a:off x="3119400" y="271584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ethique(35)/  pluriethique(27)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41911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0.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41911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1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4320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41911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1.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2900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128600">
            <a:off x="4718880" y="22593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directionnel(78000)/pluridirectionnel(16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9006800">
            <a:off x="5865120" y="233280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multimillionaire(1240000)/ plurimillionaire(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24280" y="41911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469.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28600" y="40384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40384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9436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112727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32448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380880" y="4495320"/>
            <a:ext cx="228600" cy="533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2171520" y="392400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52578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Distinguer les fenêtres d’ « alternance parfaite » et de « pseudo-alternan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6819840" y="2933640"/>
            <a:ext cx="304560" cy="3733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e2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703-F030-4436-B562-0C3D9C9115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Fenêtre d’analyse : multi/pluri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6633"/>
                </a:solidFill>
                <a:latin typeface="Tahoma"/>
              </a:rPr>
              <a:t>Autour de 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multipersonnels / pluripersonnels(0.4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ultidisciplinaires / pluridisciplinaires(0.4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ulticommunaux / pluricommunaux(0.4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ultititulaires / plurititulaires (0.5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ultiquotidien / pluriquotidien (0.5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ultirecordman / plurirecordman (0.7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ulticellulaires / pluricellulaires (0.9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ulticentenaire / pluricentenaire (1.0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ultiprofessionnels / pluriprofessionnels (1.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ultiethique / pluriethique (1.3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linguistique / plurilinguistique(1.6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communautaire / pluricommunautaire(1.6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communautaires / pluricommunautaires(1.7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saisonnier / plurisaisonnier(1.8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travail / pluritravail(2.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712-2177-4596-AB4B-3C1B593DF1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Fenêtre d’analyse autour de 1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Alternance parfait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Nette préférence pour les adjectifs relationnel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multidisciplinaires / pluridisciplinaires(0.4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cylindriques / polycylindriques(0.5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lurifonctionnels / polyfonctionnels (0.5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34D-D381-4776-B171-C64B7A98C3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Fenêtre d’analyse : multi/pluri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6633"/>
                </a:solidFill>
                <a:latin typeface="Tahoma"/>
              </a:rPr>
              <a:t>Extrémité inférieure (préférence pour </a:t>
            </a:r>
            <a:r>
              <a:rPr b="0" i="1" lang="fr-CH" sz="2800" spc="-1" strike="noStrike">
                <a:solidFill>
                  <a:srgbClr val="006633"/>
                </a:solidFill>
                <a:latin typeface="Tahoma"/>
              </a:rPr>
              <a:t>pluri</a:t>
            </a:r>
            <a:r>
              <a:rPr b="0" lang="fr-CH" sz="2800" spc="-1" strike="noStrike">
                <a:solidFill>
                  <a:srgbClr val="006633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annuel / pluriannuel (0.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actifs / pluriactifs (0.01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hebdomadaire / plurihebdomadaire (0.01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artistique / pluriartistique (0.1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6633"/>
                </a:solidFill>
                <a:latin typeface="Tahoma"/>
              </a:rPr>
              <a:t>Extrémité supérieure (préférence pour </a:t>
            </a:r>
            <a:r>
              <a:rPr b="0" i="1" lang="fr-CH" sz="2800" spc="-1" strike="noStrike">
                <a:solidFill>
                  <a:srgbClr val="006633"/>
                </a:solidFill>
                <a:latin typeface="Tahoma"/>
              </a:rPr>
              <a:t>multi</a:t>
            </a:r>
            <a:r>
              <a:rPr b="0" lang="fr-CH" sz="2800" spc="-1" strike="noStrike">
                <a:solidFill>
                  <a:srgbClr val="006633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multifonctions / plurifonctions (43658.5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multicanaux /  pluricanaux (58666.6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multimillionaire / plurimillionaire (112727.2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multisport / plurisport (120000.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multicouche / pluricouches (179000.00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multicoques / pluricoques (352000.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multijoueur / plurijoueur (503333.3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22A-2A3D-4220-9B4B-133EE38DB1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Fenêtre d’analyse des extrêmes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Fenêtre de pseudo-alternance multi/plur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Préférence pour </a:t>
            </a:r>
            <a:r>
              <a:rPr b="0" i="1" lang="fr-CH" sz="2600" spc="-1" strike="noStrike">
                <a:solidFill>
                  <a:srgbClr val="000000"/>
                </a:solidFill>
                <a:latin typeface="Tahoma"/>
              </a:rPr>
              <a:t>multi </a:t>
            </a: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Beaucoup d’adjectifs formés sur des noms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des espaces multis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une imprimante multifo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Fenêtre de pseudo-alternance multi/pol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Montre la préférence pour </a:t>
            </a:r>
            <a:r>
              <a:rPr b="0" i="1" lang="fr-CH" sz="2600" spc="-1" strike="noStrike">
                <a:solidFill>
                  <a:srgbClr val="000000"/>
                </a:solidFill>
                <a:latin typeface="Tahoma"/>
              </a:rPr>
              <a:t>poly</a:t>
            </a: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 dans des vocabulaires « techniques »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200" spc="-1" strike="noStrike">
                <a:solidFill>
                  <a:srgbClr val="000000"/>
                </a:solidFill>
                <a:latin typeface="Tahoma"/>
              </a:rPr>
              <a:t>polycarbonates, </a:t>
            </a:r>
            <a:r>
              <a:rPr b="0" i="1" lang="fr-FR" sz="2200" spc="-1" strike="noStrike">
                <a:solidFill>
                  <a:srgbClr val="000000"/>
                </a:solidFill>
                <a:latin typeface="Tahoma"/>
              </a:rPr>
              <a:t>polyneuropath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9A9-819B-474D-8586-13B1488A43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Fenêtre d’analyse des extrêmes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Permettent d’exclure des « cas marginaux »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multiphosphates (3)/polyphosphates (14200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pluritrauma (19) /polytrauma (19500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multineuropathie (5) /polyneuropathie (38200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777-6B5D-42C8-88D7-3A426DACC7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Autres résultats: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Les préfixes de quantité unique (mono/uni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fr-CH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 N,  A </a:t>
            </a:r>
            <a:r>
              <a:rPr b="0" lang="fr-CH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 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600" spc="-1" strike="noStrike">
                <a:solidFill>
                  <a:srgbClr val="000000"/>
                </a:solidFill>
                <a:latin typeface="Tahoma"/>
              </a:rPr>
              <a:t>monocellulaire / unicellulai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500-71A6-4A02-9475-FF881909A8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Ampleur de l’alternance (mono/uni)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371600" y="1905120"/>
          <a:ext cx="6019920" cy="1050840"/>
        </p:xfrm>
        <a:graphic>
          <a:graphicData uri="http://schemas.openxmlformats.org/drawingml/2006/table">
            <a:tbl>
              <a:tblPr/>
              <a:tblGrid>
                <a:gridCol w="2840040"/>
                <a:gridCol w="3179880"/>
              </a:tblGrid>
              <a:tr h="54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s d’alter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ter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.1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4.8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831-8B0B-41DE-86B5-749EAF4C30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Préférence dans l’alternance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04920" y="2514600"/>
          <a:ext cx="8305560" cy="911160"/>
        </p:xfrm>
        <a:graphic>
          <a:graphicData uri="http://schemas.openxmlformats.org/drawingml/2006/table">
            <a:tbl>
              <a:tblPr/>
              <a:tblGrid>
                <a:gridCol w="1644480"/>
                <a:gridCol w="3217680"/>
                <a:gridCol w="3443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éférence pour le 1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éférence pour le 2</a:t>
                      </a:r>
                      <a:r>
                        <a:rPr b="0" lang="fr-FR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è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o/u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,8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,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160" y="3962520"/>
            <a:ext cx="7924680" cy="23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Répartition quasi-parfaite entre les deux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570-DD09-495E-A027-15B1D6B38E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Cadre général (II)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RCL bilingu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3520" y="3335400"/>
            <a:ext cx="8381880" cy="939600"/>
            <a:chOff x="533520" y="3335400"/>
            <a:chExt cx="8381880" cy="939600"/>
          </a:xfrm>
        </p:grpSpPr>
        <p:sp>
          <p:nvSpPr>
            <p:cNvPr id="107" name=""/>
            <p:cNvSpPr/>
            <p:nvPr/>
          </p:nvSpPr>
          <p:spPr>
            <a:xfrm>
              <a:off x="6248520" y="3335400"/>
              <a:ext cx="26668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H" sz="2200" spc="-1" strike="noStrike">
                  <a:solidFill>
                    <a:srgbClr val="000000"/>
                  </a:solidFill>
                  <a:latin typeface="Tahoma"/>
                </a:rPr>
                <a:t>mono, u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3335400"/>
              <a:ext cx="26672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H" sz="2200" spc="-1" strike="noStrike">
                  <a:solidFill>
                    <a:srgbClr val="000000"/>
                  </a:solidFill>
                  <a:latin typeface="Tahoma"/>
                </a:rPr>
                <a:t>mono, u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20" y="3335400"/>
              <a:ext cx="3047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200" spc="-1" strike="noStrike">
                  <a:solidFill>
                    <a:srgbClr val="000000"/>
                  </a:solidFill>
                  <a:latin typeface="Tahoma"/>
                </a:rPr>
                <a:t>quantité uniqu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48520" y="3805200"/>
              <a:ext cx="26668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H" sz="2200" spc="-1" strike="noStrike">
                  <a:solidFill>
                    <a:srgbClr val="000000"/>
                  </a:solidFill>
                  <a:latin typeface="Tahoma"/>
                </a:rPr>
                <a:t>multi, pluri, pol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3805200"/>
              <a:ext cx="26672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H" sz="2200" spc="-1" strike="noStrike">
                  <a:solidFill>
                    <a:srgbClr val="000000"/>
                  </a:solidFill>
                  <a:latin typeface="Tahoma"/>
                </a:rPr>
                <a:t>multi, pluri, pol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3805200"/>
              <a:ext cx="3047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200" spc="-1" strike="noStrike">
                  <a:solidFill>
                    <a:srgbClr val="000000"/>
                  </a:solidFill>
                  <a:latin typeface="Tahoma"/>
                </a:rPr>
                <a:t>pluralité indéter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248520" y="2847960"/>
            <a:ext cx="26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200" spc="-1" strike="noStrike">
                <a:solidFill>
                  <a:srgbClr val="000000"/>
                </a:solidFill>
                <a:latin typeface="Tahoma"/>
              </a:rPr>
              <a:t>r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2847960"/>
            <a:ext cx="2667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200" spc="-1" strike="noStrike">
                <a:solidFill>
                  <a:srgbClr val="000000"/>
                </a:solidFill>
                <a:latin typeface="Tahoma"/>
              </a:rPr>
              <a:t>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847960"/>
            <a:ext cx="3047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réité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2376360"/>
            <a:ext cx="2666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200" spc="-1" strike="noStrike">
                <a:solidFill>
                  <a:srgbClr val="000000"/>
                </a:solidFill>
                <a:latin typeface="Tahoma"/>
              </a:rPr>
              <a:t>né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2376360"/>
            <a:ext cx="2667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200" spc="-1" strike="noStrike">
                <a:solidFill>
                  <a:srgbClr val="000000"/>
                </a:solidFill>
                <a:latin typeface="Tahoma"/>
              </a:rPr>
              <a:t>n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376360"/>
            <a:ext cx="3047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nouveau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1905120"/>
            <a:ext cx="2666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Exposant(s) 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1905120"/>
            <a:ext cx="26672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Exposant(s) 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905120"/>
            <a:ext cx="30477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905120"/>
            <a:ext cx="8381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376360"/>
            <a:ext cx="838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847960"/>
            <a:ext cx="838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4275000"/>
            <a:ext cx="8381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05120"/>
            <a:ext cx="0" cy="23698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1905120"/>
            <a:ext cx="0" cy="236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1905120"/>
            <a:ext cx="0" cy="236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915400" y="1905120"/>
            <a:ext cx="0" cy="23698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335400"/>
            <a:ext cx="838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805200"/>
            <a:ext cx="838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02E-0A84-4B66-AC84-7C0DE5C78B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Fenêtre d’analyse mono/uni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343080">
              <a:lnSpc>
                <a:spcPct val="80000"/>
              </a:lnSpc>
              <a:spcBef>
                <a:spcPts val="4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6633"/>
                </a:solidFill>
                <a:latin typeface="Tahoma"/>
              </a:rPr>
              <a:t>Extrémité inférieure (préférence pour </a:t>
            </a:r>
            <a:r>
              <a:rPr b="0" i="1" lang="fr-CH" sz="1800" spc="-1" strike="noStrike">
                <a:solidFill>
                  <a:srgbClr val="006633"/>
                </a:solidFill>
                <a:latin typeface="Tahoma"/>
              </a:rPr>
              <a:t>uni</a:t>
            </a:r>
            <a:r>
              <a:rPr b="0" lang="fr-CH" sz="1800" spc="-1" strike="noStrike">
                <a:solidFill>
                  <a:srgbClr val="006633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46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Tahoma"/>
              </a:rPr>
              <a:t>monopièces/unipièces(0.00); monolatéral/unilatéral(0.00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46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Tahoma"/>
              </a:rPr>
              <a:t>monomodèle/unimodèle(0.00); monodirectionnel/unidirectionnel(0.01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46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Tahoma"/>
              </a:rPr>
              <a:t>monoformatrice/uniformatrice(0.01); monoprésence/uniprésence(0.01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46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Tahoma"/>
              </a:rPr>
              <a:t>monopersonnel/unipersonnel(0.01); monopolaire/unipolaire(0.01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46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Tahoma"/>
              </a:rPr>
              <a:t>monopersonnels/unipersonnels(0.01); monodimensionnel/unidimensionnel(0.02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541440" indent="-343080">
              <a:lnSpc>
                <a:spcPct val="80000"/>
              </a:lnSpc>
              <a:spcBef>
                <a:spcPts val="4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6633"/>
                </a:solidFill>
                <a:latin typeface="Tahoma"/>
              </a:rPr>
              <a:t>Autour de 1 (alternance « parfaite 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46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Tahoma"/>
              </a:rPr>
              <a:t>monostructure/unistructure(0.46); monoversion/universion(0.50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46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Tahoma"/>
              </a:rPr>
              <a:t>monoraciaux/uniraciaux(0.52); monodimension/unidimension(0.56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46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Tahoma"/>
              </a:rPr>
              <a:t>monotête/unitête(0.57); monolinéaire/unilinéaire(0.77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46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Tahoma"/>
              </a:rPr>
              <a:t>monoconfessionnel/uniconfessionnel(0.80); mononational/uninational(0.82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46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Tahoma"/>
              </a:rPr>
              <a:t>monosectoriel/unisectoriel(1.06); monosex/unisex(1.27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46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Tahoma"/>
              </a:rPr>
              <a:t>monothérapie/unithérapie(1.41); monosponsor/unisponsor(1.42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541440" indent="-343080">
              <a:lnSpc>
                <a:spcPct val="80000"/>
              </a:lnSpc>
              <a:spcBef>
                <a:spcPts val="4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6633"/>
                </a:solidFill>
                <a:latin typeface="Tahoma"/>
              </a:rPr>
              <a:t>Extrémité supérieure (préférence pour </a:t>
            </a:r>
            <a:r>
              <a:rPr b="0" i="1" lang="fr-CH" sz="1800" spc="-1" strike="noStrike">
                <a:solidFill>
                  <a:srgbClr val="006633"/>
                </a:solidFill>
                <a:latin typeface="Tahoma"/>
              </a:rPr>
              <a:t>mono</a:t>
            </a:r>
            <a:r>
              <a:rPr b="0" lang="fr-CH" sz="1800" spc="-1" strike="noStrike">
                <a:solidFill>
                  <a:srgbClr val="006633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46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Tahoma"/>
              </a:rPr>
              <a:t>monoparent/uniparent(721.43); monocorde/unicorde(1198.92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46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Tahoma"/>
              </a:rPr>
              <a:t>monocommande/unicommande(1265.00); monozygote/unizygote(1641.679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46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Tahoma"/>
              </a:rPr>
              <a:t>monodrame/unidrame(2011.11); monovolume/univolume(8144.339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46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Tahoma"/>
              </a:rPr>
              <a:t>monocoques/unicoques(34666.67); monocultures/unicultures(41416.67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46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Tahoma"/>
              </a:rPr>
              <a:t>monocylindre/unicylindre(65000.00); monovolumes/univolumes(188000.00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C18-164B-4995-B976-2DEF92E6F3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Conclusion (I)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L’alternan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Phénomène importa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Certaines bases favorisent l’alternance (adj_rel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Dans les RCLs bilingu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Envisager la génération de l’alternance dans certains c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Favoriser certains préfixes dans l’altern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640-D274-49E7-AAA7-EA059F44A4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Conclusion (II)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Alternance Vs productivité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Interchangeabilité Vs concuren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alternance parfaite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pseudo-altern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51C-71C4-4704-AD34-2D4202D66E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Conclusion (III)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Méthode contrastiv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Faiblesse de la métho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La qualité de la trad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Avantage de la métho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Corpus plus restreint, mais plus « réel » en terme d’items testé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6D9-103E-4FCA-85FE-01B6E0C8DB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Conclusion (IV)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Méthode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Test empirique sur le corpus du We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Préca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Idéal pour la néolog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Méthode d’analyse en fenêt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Distinction de l’alternance parfaite et de la pseudo alter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Restreint les données à analy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785-BDA8-43F9-9CB5-C96F99FDE3F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Conclusion (V)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Travaux futu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Répéter la métho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Affiner la méthod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Génération des formes fléchies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Vérification manuelle de la trad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Affiner les réglages de Wali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Appliquer de la métho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à d’autres classes d’alternance (</a:t>
            </a:r>
            <a:r>
              <a:rPr b="0" i="1" lang="fr-CH" sz="2200" spc="-1" strike="noStrike">
                <a:solidFill>
                  <a:srgbClr val="000000"/>
                </a:solidFill>
                <a:latin typeface="Tahoma"/>
              </a:rPr>
              <a:t>maxi/méga, hyper/super, … </a:t>
            </a: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à d’autres types d’alternance (base nominale/base adjectivale … </a:t>
            </a:r>
            <a:r>
              <a:rPr b="0" i="1" lang="fr-CH" sz="2200" spc="-1" strike="noStrike">
                <a:solidFill>
                  <a:srgbClr val="000000"/>
                </a:solidFill>
                <a:latin typeface="Tahoma"/>
              </a:rPr>
              <a:t>multisport/multisportif</a:t>
            </a: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1FC-37BA-48A2-AB5A-FC4FB907A3A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400" spc="-1" strike="noStrike">
                <a:solidFill>
                  <a:srgbClr val="006633"/>
                </a:solidFill>
                <a:latin typeface="Tahoma"/>
              </a:rPr>
              <a:t>Mesurer l’alternance entre préfixes, en combinant méthodes contrastives et étude empirique </a:t>
            </a:r>
            <a:endParaRPr b="0" lang="en-US" sz="34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981080" y="4114440"/>
            <a:ext cx="6553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ahoma"/>
              </a:rPr>
              <a:t>Le cas des préfixes de pluralité indéterminé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987120" y="548640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6633"/>
                </a:solidFill>
                <a:latin typeface="Tahoma"/>
              </a:rPr>
              <a:t>Bruno Cart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Annexe: répartition par traduction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990720" y="2133720"/>
          <a:ext cx="7086600" cy="2315880"/>
        </p:xfrm>
        <a:graphic>
          <a:graphicData uri="http://schemas.openxmlformats.org/drawingml/2006/table">
            <a:tbl>
              <a:tblPr/>
              <a:tblGrid>
                <a:gridCol w="1905120"/>
                <a:gridCol w="1295280"/>
                <a:gridCol w="1219320"/>
                <a:gridCol w="1295280"/>
                <a:gridCol w="1371600"/>
              </a:tblGrid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du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ouv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uri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ur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l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637-C8BD-4C99-8064-FA65CABF318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Annexe: Indice P 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En italie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P (multi) = 0.0147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P (pluri) = 0.0634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P (poly) = 0.0017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BD1-BFA7-4663-A973-1E0AF13DED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Annexe: intersection en italien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2209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pluri: 2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5410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poli: 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10280" y="2209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multi: 2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14600" y="2057400"/>
            <a:ext cx="2666880" cy="243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62520" y="1905120"/>
            <a:ext cx="266688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76720" y="3048120"/>
            <a:ext cx="2666880" cy="243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48120" y="274320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2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90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6708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2920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486400" y="251460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1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911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3AE-B01D-4753-ABEB-267AF0C4197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6633"/>
                </a:solidFill>
                <a:latin typeface="Tahoma"/>
              </a:rPr>
              <a:t>Procédé étudié: </a:t>
            </a:r>
            <a:r>
              <a:rPr b="0" i="1" lang="fr-CH" sz="3400" spc="-1" strike="noStrike">
                <a:solidFill>
                  <a:srgbClr val="006633"/>
                </a:solidFill>
                <a:latin typeface="Tahoma"/>
              </a:rPr>
              <a:t>poly, pluri, multi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Amiot (à paraîtr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une idée de pluralité</a:t>
            </a:r>
            <a:r>
              <a:rPr b="0" i="1" lang="fr-CH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fr-CH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N ou des N/A</a:t>
            </a:r>
            <a:r>
              <a:rPr b="0" lang="fr-CH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 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Alternance avec d’autres formants de dénombrement (</a:t>
            </a:r>
            <a:r>
              <a:rPr b="0" i="1" lang="fr-CH" sz="2600" spc="-1" strike="noStrike">
                <a:solidFill>
                  <a:srgbClr val="000000"/>
                </a:solidFill>
                <a:latin typeface="Tahoma"/>
              </a:rPr>
              <a:t>multicellulaire, unicellulaire</a:t>
            </a: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Alternance entre eux (</a:t>
            </a:r>
            <a:r>
              <a:rPr b="0" i="1" lang="fr-CH" sz="2600" spc="-1" strike="noStrike">
                <a:solidFill>
                  <a:srgbClr val="000000"/>
                </a:solidFill>
                <a:latin typeface="Tahoma"/>
              </a:rPr>
              <a:t>multicellulaire, pluricellulaire</a:t>
            </a: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5E7-DBFD-48E9-94CC-949237D54A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Annexe: traduction des préfixes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57200" y="1371600"/>
          <a:ext cx="8229600" cy="371484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219320"/>
                <a:gridCol w="1143000"/>
                <a:gridCol w="838080"/>
                <a:gridCol w="838080"/>
                <a:gridCol w="990720"/>
                <a:gridCol w="1143000"/>
              </a:tblGrid>
              <a:tr h="161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ternances 3 préfi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ternance 2 préfixes, dont le cogn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ternance 2 préfixes, sans le cogn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ulement mul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ulement plu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ulement po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cun préfixe 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27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27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9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ED8-DF85-4E59-A556-CD54BA083DE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Annexe :fenêtre d’analyse: multi/poly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6633"/>
                </a:solidFill>
                <a:latin typeface="Tahoma"/>
              </a:rPr>
              <a:t>Autour de 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cycles / polycycles (0.4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cylindrique / polycylindrique (0.4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cylindriques/polycylindriques(0.5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ville/polyville(0.6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expressive/polyexpressive(0.6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fond/polyfond(0.6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criminel/polycriminel(0.7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famille/polyfamille(1.0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espace/polyespace(1.5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vaccin/polyvaccin(1.56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ministre</a:t>
            </a: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 / polyministre</a:t>
            </a: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(1.8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multisensoriels / polysensoriels (2.0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EFF-94F2-4175-A225-40AACB6337E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Annexe: fenêtre d’analyse: pluri /poli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360360">
              <a:lnSpc>
                <a:spcPct val="80000"/>
              </a:lnSpc>
              <a:spcBef>
                <a:spcPts val="60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3b812f"/>
                </a:solidFill>
                <a:latin typeface="Tahoma"/>
              </a:rPr>
              <a:t>Autour de 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luriministre / polyministre (0.4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luricause / polycause (0.4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luriformes / polyformes (0.5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lurifonctionnels / polyfonctionnels (0.5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luridimension / polydimension (0.6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luribusiness / polybusiness (0.7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luricentrale / polycentrale (0.8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luridose / polydose (0.9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lurinodaux / polynodaux (1.0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luriracial / polyracial (1.0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luricommunication / polycommunication (1.3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lurifonction / polyfonction (1.3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luriproduit / polyproduit (1.5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lurifactoriels / polyfactoriels (1.6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lurifonctionnel / polyfonctionnel (1.7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762-6B3E-4F63-A2D8-3FDA88E24A9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Fenêtre d’analyse multi/poly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6633"/>
                </a:solidFill>
                <a:latin typeface="Tahoma"/>
              </a:rPr>
              <a:t>Extrémité inférieure (préférence pour </a:t>
            </a:r>
            <a:r>
              <a:rPr b="0" i="1" lang="fr-CH" sz="2400" spc="-1" strike="noStrike">
                <a:solidFill>
                  <a:srgbClr val="006633"/>
                </a:solidFill>
                <a:latin typeface="Tahoma"/>
              </a:rPr>
              <a:t>poly</a:t>
            </a:r>
            <a:r>
              <a:rPr b="0" lang="fr-CH" sz="2400" spc="-1" strike="noStrike">
                <a:solidFill>
                  <a:srgbClr val="006633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carbonate/polycarbonate(0.00); multicycliques/polycycliques(0.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toxicomanie/polytoxicomanie(0.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toxicomanes/polytoxicomanes(0.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valence/polyvalence(0.01); multitrauma/polytrauma(0.0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interview/polyinterview(0.02); multicyclique/polycyclique(0.0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fonctionnels/polyfonctionnels(0.0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consommateurs/polyconsommateurs(0.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6633"/>
                </a:solidFill>
                <a:latin typeface="Tahoma"/>
              </a:rPr>
              <a:t>Extrémité supérieure (préférence pour </a:t>
            </a:r>
            <a:r>
              <a:rPr b="0" i="1" lang="fr-CH" sz="2400" spc="-1" strike="noStrike">
                <a:solidFill>
                  <a:srgbClr val="006633"/>
                </a:solidFill>
                <a:latin typeface="Tahoma"/>
              </a:rPr>
              <a:t>mult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couche/polycouche(11700.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sectoriels/polysectoriels(11825.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racial/polyracial(12513.3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marque/polymarque(13900.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campus/polycampus(14708.3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fonction/polyfonction(23880.6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national/polynational(51975.0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multicoques/polycoques(70400.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C26-3FA1-4754-ABD5-BF024AC6196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6633"/>
                </a:solidFill>
                <a:latin typeface="Tahoma"/>
              </a:rPr>
              <a:t>Annexe : ampleur de l’alternance selon le préfixe de la langue source</a:t>
            </a:r>
            <a:endParaRPr b="0" lang="en-US" sz="3400" spc="-1" strike="noStrike">
              <a:solidFill>
                <a:srgbClr val="006633"/>
              </a:solidFill>
              <a:latin typeface="Tahom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3581280"/>
          <a:ext cx="8077320" cy="2187720"/>
        </p:xfrm>
        <a:graphic>
          <a:graphicData uri="http://schemas.openxmlformats.org/drawingml/2006/table">
            <a:tbl>
              <a:tblPr/>
              <a:tblGrid>
                <a:gridCol w="1778040"/>
                <a:gridCol w="3089160"/>
                <a:gridCol w="3210120"/>
              </a:tblGrid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ternance entre 2 préfix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ternance entre 3 préfix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lti (14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.0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8.9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uri (9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8.3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,6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li (5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.2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2,7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457200" y="1523880"/>
          <a:ext cx="8077320" cy="1824120"/>
        </p:xfrm>
        <a:graphic>
          <a:graphicData uri="http://schemas.openxmlformats.org/drawingml/2006/table">
            <a:tbl>
              <a:tblPr/>
              <a:tblGrid>
                <a:gridCol w="1778040"/>
                <a:gridCol w="3089160"/>
                <a:gridCol w="321012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s d’alter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ter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lti (18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.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7.9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uri (19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5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.4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li (6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.7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7.2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338-E56E-41D1-B7D1-F9451227BE8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6633"/>
                </a:solidFill>
                <a:latin typeface="Tahoma"/>
              </a:rPr>
              <a:t>Procédé étudié: </a:t>
            </a:r>
            <a:r>
              <a:rPr b="0" i="1" lang="fr-CH" sz="3400" spc="-1" strike="noStrike">
                <a:solidFill>
                  <a:srgbClr val="006633"/>
                </a:solidFill>
                <a:latin typeface="Tahoma"/>
              </a:rPr>
              <a:t>poly, pluri, multi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Amiot  (à paraîtr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Contraintes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Origine grecque ou latine de la bas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Catégorie de la b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55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Tahoma"/>
              </a:rPr>
              <a:t>Domaine de spécialité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Rare cas de concurrence entre ces préfix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« ils paraissent tout-à-fait interchangeables, ce qui arrive parfois d’ailleurs  »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Iacobini (2004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Description très proche de celle de Amio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8B9-C97F-439A-AF40-A1A5BBC0A8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Questions de recherche (I)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358128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3000" spc="-1" strike="noStrike">
                <a:solidFill>
                  <a:srgbClr val="3b812f"/>
                </a:solidFill>
                <a:latin typeface="Tahoma"/>
              </a:rPr>
              <a:t>multidimensionale</a:t>
            </a:r>
            <a:r>
              <a:rPr b="0" lang="fr-CH" sz="3000" spc="-1" strike="noStrike">
                <a:solidFill>
                  <a:srgbClr val="3b812f"/>
                </a:solidFill>
                <a:latin typeface="Tahoma"/>
              </a:rPr>
              <a:t> </a:t>
            </a: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Générer une seule possibilité: </a:t>
            </a:r>
            <a:r>
              <a:rPr b="0" i="1" lang="fr-CH" sz="2600" spc="-1" strike="noStrike">
                <a:solidFill>
                  <a:srgbClr val="3b812f"/>
                </a:solidFill>
                <a:latin typeface="Tahoma"/>
              </a:rPr>
              <a:t>multidimensionn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Tahoma"/>
              </a:rPr>
              <a:t>Générer les deux/trois possibilités: </a:t>
            </a:r>
            <a:r>
              <a:rPr b="0" i="1" lang="fr-CH" sz="2600" spc="-1" strike="noStrike">
                <a:solidFill>
                  <a:srgbClr val="3b812f"/>
                </a:solidFill>
                <a:latin typeface="Tahoma"/>
              </a:rPr>
              <a:t>multidimensionnel,  pluridimensionnel, polydimensionn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1905120"/>
            <a:ext cx="3078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1447920"/>
            <a:ext cx="574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828800"/>
            <a:ext cx="40384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X =&gt; multi|pluri|poli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Y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L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Courier New"/>
              </a:rPr>
              <a:t>it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371600"/>
            <a:ext cx="441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828800"/>
            <a:ext cx="3505320" cy="685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1905120"/>
            <a:ext cx="3581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X’=&gt; multi|pluri|poly 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Y’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Courier New"/>
              </a:rPr>
              <a:t>fr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0280" y="274320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ù 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= 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1905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657600" cy="685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ECE-B17B-4159-93AA-BC4A260113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Question de recherche (II)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Générer plusieurs possibilité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Quand l’alternance est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0880" y="35049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L’alternance est-elle toujours possibl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Contraintes permettant/empêchant l’alternance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Une concurrence dans l’alternance =~ productivité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D09-EF5A-4712-8EAB-4EEFC9287B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6633"/>
                </a:solidFill>
                <a:latin typeface="Tahoma"/>
              </a:rPr>
              <a:t>Trouver des réponses</a:t>
            </a:r>
            <a:endParaRPr b="0" lang="en-US" sz="3800" spc="-1" strike="noStrike">
              <a:solidFill>
                <a:srgbClr val="006633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Méthode de collecte des donné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Méthodes de mesure et d’analyse de l’alternan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e27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ahoma"/>
              </a:rPr>
              <a:t>Débouchés, travaux futurs, discuss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7CA-AE58-4AC2-9A54-66E70094C8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6633"/>
                </a:solidFill>
                <a:latin typeface="Tahoma"/>
              </a:rPr>
              <a:t>Collecte de données: méthode contrastive</a:t>
            </a:r>
            <a:endParaRPr b="0" lang="en-US" sz="3400" spc="-1" strike="noStrike">
              <a:solidFill>
                <a:srgbClr val="006633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57200" y="2971800"/>
            <a:ext cx="1980720" cy="2090520"/>
            <a:chOff x="457200" y="2971800"/>
            <a:chExt cx="1980720" cy="2090520"/>
          </a:xfrm>
        </p:grpSpPr>
        <p:sp>
          <p:nvSpPr>
            <p:cNvPr id="154" name=""/>
            <p:cNvSpPr/>
            <p:nvPr/>
          </p:nvSpPr>
          <p:spPr>
            <a:xfrm>
              <a:off x="609480" y="2971800"/>
              <a:ext cx="1828440" cy="916920"/>
            </a:xfrm>
            <a:prstGeom prst="rect">
              <a:avLst/>
            </a:prstGeom>
            <a:noFill/>
            <a:ln w="9360">
              <a:solidFill>
                <a:srgbClr val="e27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Tahoma"/>
                </a:rPr>
                <a:t>Collecte de néologismes en ital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4419720"/>
              <a:ext cx="182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H" sz="1800" spc="-1" strike="noStrike">
                  <a:solidFill>
                    <a:srgbClr val="5f5f5f"/>
                  </a:solidFill>
                  <a:latin typeface="Tahoma"/>
                </a:rPr>
                <a:t>multidirezion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514600" y="2971800"/>
            <a:ext cx="2743200" cy="2364840"/>
            <a:chOff x="2514600" y="2971800"/>
            <a:chExt cx="2743200" cy="2364840"/>
          </a:xfrm>
        </p:grpSpPr>
        <p:sp>
          <p:nvSpPr>
            <p:cNvPr id="157" name=""/>
            <p:cNvSpPr/>
            <p:nvPr/>
          </p:nvSpPr>
          <p:spPr>
            <a:xfrm>
              <a:off x="2971800" y="2971800"/>
              <a:ext cx="2286000" cy="1191240"/>
            </a:xfrm>
            <a:prstGeom prst="rect">
              <a:avLst/>
            </a:prstGeom>
            <a:noFill/>
            <a:ln w="9360">
              <a:solidFill>
                <a:srgbClr val="e27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Tahoma"/>
                </a:rPr>
                <a:t>Génération de toutes les formes possibles en franç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14600" y="3352680"/>
              <a:ext cx="381240" cy="152640"/>
            </a:xfrm>
            <a:prstGeom prst="rightArrow">
              <a:avLst>
                <a:gd name="adj1" fmla="val 50000"/>
                <a:gd name="adj2" fmla="val 62441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95840" y="4419720"/>
              <a:ext cx="2361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H" sz="1800" spc="-1" strike="noStrike">
                  <a:solidFill>
                    <a:srgbClr val="5f5f5f"/>
                  </a:solidFill>
                  <a:latin typeface="Tahoma"/>
                </a:rPr>
                <a:t>multidirectionnel pluridirectionnel  polydirection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410080" y="2971800"/>
            <a:ext cx="3200400" cy="2440800"/>
            <a:chOff x="5410080" y="2971800"/>
            <a:chExt cx="3200400" cy="2440800"/>
          </a:xfrm>
        </p:grpSpPr>
        <p:sp>
          <p:nvSpPr>
            <p:cNvPr id="161" name=""/>
            <p:cNvSpPr/>
            <p:nvPr/>
          </p:nvSpPr>
          <p:spPr>
            <a:xfrm>
              <a:off x="5867280" y="2971800"/>
              <a:ext cx="2438280" cy="916920"/>
            </a:xfrm>
            <a:prstGeom prst="rect">
              <a:avLst/>
            </a:prstGeom>
            <a:noFill/>
            <a:ln w="9360">
              <a:solidFill>
                <a:srgbClr val="e27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Tahoma"/>
                </a:rPr>
                <a:t>Evaluation quantitative des formes en cor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3352680"/>
              <a:ext cx="380880" cy="152640"/>
            </a:xfrm>
            <a:prstGeom prst="rightArrow">
              <a:avLst>
                <a:gd name="adj1" fmla="val 50000"/>
                <a:gd name="adj2" fmla="val 62382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67280" y="449568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H" sz="1800" spc="-1" strike="noStrike">
                  <a:solidFill>
                    <a:srgbClr val="5f5f5f"/>
                  </a:solidFill>
                  <a:latin typeface="Tahoma"/>
                </a:rPr>
                <a:t>multidirectionnel (x) pluridirectionnel (y) polydirectionnel (z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533520" y="1371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95B-606E-46B8-B3B1-0D5715A80F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1-09T09:11:08Z</dcterms:modified>
  <cp:revision>4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