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6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7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69881-A375-4735-851C-2D72D7AD014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09F50-67A6-4B71-A5E4-12CDDE55A7A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BDC0E-E5C4-41D8-89B5-EAB4ECC7687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2BF1E-7776-4316-80B2-26336136FF7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C6A28-D233-4857-A768-F0425BD8ED4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05D08-189F-401D-A7AF-4F297C89672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C9419-C34E-4F99-A6BB-E234590822D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6E48E-626F-4959-9FB6-B1F9834FC8E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80937-16AD-4D72-8B4D-5E774AD144A0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9583B-0BE0-4790-93BB-C49631CC9BD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DC977-D249-47B1-84A0-082C29497BC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9E179-0F33-4572-84D2-9B452131900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13458-FAC5-47ED-AC16-A087D2E4D64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205BD-0A17-4963-9865-6F5FCE37EAE3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C7F81-2C7B-4A49-8206-140F49DB7A0B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CD6A1-5A29-4E1B-9EA0-FB99BBEEF66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04D36-9FBA-4968-BFA1-C6D8A733D38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30930-3076-4D13-89D0-97EDC0F9B110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B80F2-7673-45E7-91A5-AB0DC523332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D6B6E-8827-4ABE-961C-32BEAEDB2D6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E2069-F3D2-4BB2-9D3D-2A0F81BF5DA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7809A-FE27-4DA8-A49F-73E1521C178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A2466-4A38-4C02-A65F-8C4560232FA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C74D9-D195-4C07-84A1-C0A108D695F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4631B-05F1-408E-850E-CC825FECABB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C8712-5D1E-4B07-809B-CEB36217ECE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333DC-8FAA-4824-9D42-B943D33F86A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FC641-E7F6-43C7-B5C7-C8011DAE572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8767D-3F29-4557-B2F9-4A78ABADB71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187F0-1B01-435B-B445-ED3B1FF1C85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52827-12E9-48B2-B6E4-9A8CAD5AC4E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EFB06-B69F-42F2-8426-C9A287EA923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C778F-D038-4C8C-B13D-8D71C8DEB9C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1C78B-8F61-495C-A69A-0C7741BA098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DFBEB-B39E-4CF8-A610-36A10444802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A5890-59AB-46A8-961E-91FBA12C791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7879C-1516-4BC5-9A6F-E7A66B083AE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A4CC2-5216-453C-AC51-073E37865FD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63C-3F66-4820-A9AC-C57AA0E2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57F-5218-40E4-8952-6A500F69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6F0-30ED-40C0-9615-AEC4186A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EC5-DF96-450E-8420-33FEA304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EEFE-04F1-43A7-AC6E-41D1BC14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617E-5202-47F5-9297-7E77CDDA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BA6-0E29-462B-84E9-6F4A37CF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0798-AAC3-43BC-AFA9-995DE747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0500-3DA4-4C65-A575-5B87BBA7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040" y="660240"/>
            <a:ext cx="777564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519C-B4B5-4533-B403-43512997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537D-2F6A-4234-9124-369A56C0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057-BF14-47E2-885A-3EAEABB5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AE7B-4769-49D0-8B63-CF8D1B69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C528-BF8D-4239-A24D-644B23D3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3345-F8D8-4CEF-8AEB-D008E5E0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BC9D-CEF0-4986-91D8-EC01DBC2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40A9-0A73-4C93-857B-A6A31B84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20E-057A-497E-A8B0-906E75DB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BE6-D973-4C39-AB3E-1BCDA4B4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448-A9B8-4AA5-B2EB-33964889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660240"/>
            <a:ext cx="777564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5E5-0352-48A2-B844-39187106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C48-9E73-486C-87C8-C89312B5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25E-E7DB-4164-AE91-C33B1A61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F04-20DE-4657-8EF8-EAE333D4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456840" y="0"/>
                <a:ext cx="2741760" cy="116640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4280" indent="-31428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86520" indent="-26136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487880" indent="-21240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13040" indent="-21240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13040" indent="-212400">
              <a:lnSpc>
                <a:spcPct val="11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13040" indent="-212400">
              <a:lnSpc>
                <a:spcPct val="11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1320" y="6248160"/>
            <a:ext cx="2892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07120"/>
            <a:ext cx="582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97E607-2FA8-42B2-9D60-D91899EFDB06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480" cy="6856560"/>
            <a:chOff x="0" y="0"/>
            <a:chExt cx="586548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440" y="990360"/>
              <a:ext cx="5180040" cy="1904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120" cy="317520"/>
            <a:chOff x="3632040" y="4889520"/>
            <a:chExt cx="487512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7240" y="4889520"/>
              <a:ext cx="25992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1320" y="6248160"/>
            <a:ext cx="2892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43120"/>
            <a:ext cx="58248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C9CEFE-0848-41BF-8C4C-5F4A9257BF79}" type="slidenum">
              <a:rPr b="1" lang="en-GB" sz="26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70080"/>
            <a:ext cx="766764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11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11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u pied de page 3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DejaVu Sans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100" spc="-1" strike="noStrike">
                <a:solidFill>
                  <a:srgbClr val="003366"/>
                </a:solidFill>
                <a:latin typeface="Arial"/>
              </a:rPr>
              <a:t>Linguistic prerequisites to the computing of morphological productivity and first results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6666"/>
                </a:solidFill>
                <a:latin typeface="Arial"/>
              </a:rPr>
              <a:t>G. Dal, B. Fradin, N. Grabar, S. Lignon, F. Namer, C. Plancq, F. Yvon &amp; P. Zweigenbaum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6666"/>
                </a:solidFill>
                <a:latin typeface="Arial"/>
              </a:rPr>
              <a:t>GDR 2220, CN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terial: Affi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study of 10 affix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4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-able, -ion, -ité, -ifier, -iser, -eux, -if, -ique, -o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4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i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rp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4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wspaper 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xeme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terial: Newspaper corpora</a:t>
            </a:r>
            <a:br>
              <a:rPr sz="3600"/>
            </a:br>
            <a:r>
              <a:rPr b="1" i="1" lang="en-GB" sz="3200" spc="-1" strike="noStrike">
                <a:solidFill>
                  <a:srgbClr val="006666"/>
                </a:solidFill>
                <a:latin typeface="Arial"/>
              </a:rPr>
              <a:t>journal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900000" y="2340000"/>
          <a:ext cx="10441080" cy="609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0000"/>
                    <a:ext cx="1044108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4"/>
          <p:cNvSpPr/>
          <p:nvPr/>
        </p:nvSpPr>
        <p:spPr>
          <a:xfrm>
            <a:off x="990720" y="5410080"/>
            <a:ext cx="6783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6560" indent="-27936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for 1995: 47 640 art, 20 M o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for 1999: 59 630 art, 25 M o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7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thods: Quantitative productivity meas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836640" y="2952720"/>
            <a:ext cx="3843360" cy="3097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4235400" y="2835360"/>
            <a:ext cx="4584600" cy="3213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1332000" y="2411280"/>
            <a:ext cx="33130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Vocabulary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040360" y="2411280"/>
            <a:ext cx="33130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Productivity 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833400" y="797040"/>
            <a:ext cx="77803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esults: Quantitative produ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ction-based contrastiv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pendence on lexeme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parison between affi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tinuity through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e on lexeme 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33400" y="704880"/>
            <a:ext cx="77788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ection-based contrastive stu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836640" y="2357280"/>
            <a:ext cx="5283000" cy="4122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6300720" y="2362320"/>
            <a:ext cx="223200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-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able global tenden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mall differences in function of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33400" y="704880"/>
            <a:ext cx="77788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pendence on lexeme catego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836640" y="2428920"/>
            <a:ext cx="3753000" cy="263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4859280" y="2428920"/>
            <a:ext cx="3753000" cy="26305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079640" y="5143680"/>
            <a:ext cx="73800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lection criteria are important (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-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iachronic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v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synchronic 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able tendency in various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833400" y="704880"/>
            <a:ext cx="77788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mparison between affi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836640" y="2500200"/>
            <a:ext cx="3753000" cy="2630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4859280" y="2500200"/>
            <a:ext cx="3753000" cy="26305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079640" y="5286240"/>
            <a:ext cx="7380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ied affixes show various productivity degre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iew +/– stable within various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833400" y="660240"/>
            <a:ext cx="77770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ntinuity through ye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480000" y="2362320"/>
            <a:ext cx="23400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able tend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abl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produces « new » lex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extensive cor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1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836640" y="2519280"/>
            <a:ext cx="546264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833400" y="704880"/>
            <a:ext cx="77788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ore on lexeme construction (1/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480000" y="2362320"/>
            <a:ext cx="2340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of -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ttracted by bases constructed with -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lexemes are less frequ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836640" y="2519280"/>
            <a:ext cx="564336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7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ore on lexeme construction (2/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760320" y="2411280"/>
            <a:ext cx="4383360" cy="3060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5040360" y="2403360"/>
            <a:ext cx="4103640" cy="30337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1079640" y="5286240"/>
            <a:ext cx="7380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- is attracted by -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abl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basis lex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lexemes are less frequ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pied de page 4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orphological productiv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Onder produktiviteit als morfologish fenomeen verstaan we dan de voor taalgebruikers bestaande mogelijkeid door middel van het morfologisch procédé dat aan de vorm-betekeniscorrespondentie van sommige hun bekende woorden ten grondslag, onopzettelijk een in principle niet telbaar aantal nieuwe formatives te vormen” (Schultink 196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We consider productivity as a morphological phenomenon which makes it possible for language users to coin unintentionally an in principle unlimited number of new formations, by using the morphological procedure that lies behind the form-meaning correspondance of some known words” (our transl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esuring productivity (Baayen 2001, …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fr-FR" sz="1800" spc="-1" strike="noStrike" baseline="-25000">
                <a:solidFill>
                  <a:srgbClr val="003366"/>
                </a:solidFill>
                <a:latin typeface="Arial"/>
              </a:rPr>
              <a:t>C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= n</a:t>
            </a:r>
            <a:r>
              <a:rPr b="0" lang="fr-FR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/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*</a:t>
            </a:r>
            <a:r>
              <a:rPr b="0" lang="fr-FR" sz="1800" spc="-1" strike="noStrike" baseline="-25000">
                <a:solidFill>
                  <a:srgbClr val="003366"/>
                </a:solidFill>
                <a:latin typeface="Arial"/>
              </a:rPr>
              <a:t>C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= n</a:t>
            </a:r>
            <a:r>
              <a:rPr b="0" lang="fr-FR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/N</a:t>
            </a:r>
            <a:r>
              <a:rPr b="0" lang="fr-FR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833400" y="797040"/>
            <a:ext cx="77803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veral levels of differences obser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8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veral factors influence the 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8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ffixes, theme, selection principles, complexity of 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tinuity accross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8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 sa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8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of more extensive corp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833400" y="797040"/>
            <a:ext cx="77803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xperience feedback for the NL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362320"/>
            <a:ext cx="79488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e fine-grained morphological analy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4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fining lexeme construction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4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ing new 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alitative analysis of constructiona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alidated morphological lexic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4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OS ta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4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mantic lexi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833400" y="797040"/>
            <a:ext cx="77803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ersp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pplication to other (larger) corp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udy of more affi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pendence between the semantics of affixes and their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parison between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pplication of other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4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 1/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Baayen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H. (2001),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Word frequency distributions,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ordrecht, The Netherlands: Kluwer Academic Publish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al G. (2003), « Productivité morphologique : définitions et notions connexes », 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Langue Française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140, pp. 3-2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al G., Grabar N., Lignon S., Plancq C., Tribout T. &amp; Yvon F. (2007), « Les adjectifs en 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inXable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du français », in F. Florilic éd., 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La négation dans les langues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romanes, Amsterdam/Philadelphia, John Benjamins, coll. « Investigationes Supplementa », pp. 215-234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vert S. &amp; Lüdeling A. (2001),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“Mesuring morphological productivity: Is automatic preprocessing sufficient?”, in P. Rayson, A. Wilson, T. Mc Enery, A. Hardie &amp; S. Khoja eds,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Proceedings of the Corpus Linguistics 2001 Conference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, pp. 167-17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Gaeta L. &amp; Ricca D. (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2003), “Frequency and productivity in Italian derivation: A comparison between corpus-based and lexico-graphical data”,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Italian Journal of Linguistics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15-1, pp. 63-98.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4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 2/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Grabar N., Dal G., Fradin B., Hathout N., Lignon S., Namer F., Plancq C., Tribout D., Yvon Y. &amp; Zweigenbaum P. (2006a), « Productivité quantitative de la suffixation par -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Able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dans un corpus journalistique du français », in J.-M. Viprey éd., 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Peer-reviewed proceedings, Lexicometra : 8e Journées internationales d'Analyse statistique des Données Textuelles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, Besançon, 19-21 Avril 2006, pp. 473-48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Grabar N., Dal G., Fradin B., Hathout N., Lignon S., Namer F., Plancq C., Tribout D., Yvon Y. &amp; Zweigenbaum P. (2006b), « Productivité quantitative des suffixations par –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ité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t par -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Able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dans un corpus journalistique moderne », 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P. Mertens, C. Fairon, A. Dister &amp; P. Watrin éds. 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Verbum ex machina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Actes de la 13e conférence sur le traitement automatique des langues naturelles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, Louvain-la Neuve, Presses universitaires de Louvain, pp. 167-17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Schultink H. (1961), “Produktiviteit als Morfologisch Fenomeen”, </a:t>
            </a:r>
            <a:r>
              <a:rPr b="0" i="1" lang="de-DE" sz="1800" spc="-1" strike="noStrike">
                <a:solidFill>
                  <a:srgbClr val="003366"/>
                </a:solidFill>
                <a:latin typeface="Arial"/>
              </a:rPr>
              <a:t>Forum der Letteren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2, pp. 110-12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pied de page 4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im and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Our initial aim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: to propose a cartography of the productivity of the main French Lexemes Construction Rules (= LC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Questions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13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[Q1]: Which criteria should be used to determine if a word-form is a good candidate for the calculation of </a:t>
            </a:r>
            <a:r>
              <a:rPr b="0" i="1" lang="fr-FR" sz="20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fr-FR" sz="2000" spc="-1" strike="noStrike">
                <a:solidFill>
                  <a:srgbClr val="003366"/>
                </a:solidFill>
                <a:latin typeface="Arial"/>
              </a:rPr>
              <a:t>P*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13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[Q2]: Which corpus should be used if we intend to represent the productivity of LCRs in Frenc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pied de page 4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lecting candidate lexemes </a:t>
            </a:r>
            <a:br>
              <a:rPr sz="3200"/>
            </a:br>
            <a:r>
              <a:rPr b="1" i="1" lang="en-GB" sz="3200" spc="-1" strike="noStrike">
                <a:solidFill>
                  <a:srgbClr val="006666"/>
                </a:solidFill>
                <a:latin typeface="Arial"/>
              </a:rPr>
              <a:t>Automatic (pre)processing 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utomatic pre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1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Tagging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. E.g. for French suffixation in -</a:t>
            </a:r>
            <a:r>
              <a:rPr b="0" i="1" lang="fr-FR" sz="2400" spc="-1" strike="noStrike">
                <a:solidFill>
                  <a:srgbClr val="003366"/>
                </a:solidFill>
                <a:latin typeface="Arial"/>
              </a:rPr>
              <a:t>able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fr-FR" sz="2400" spc="-1" strike="noStrike">
                <a:solidFill>
                  <a:srgbClr val="33cc33"/>
                </a:solidFill>
                <a:latin typeface="Arial"/>
              </a:rPr>
              <a:t>mangeable</a:t>
            </a:r>
            <a:r>
              <a:rPr b="0" i="1" lang="fr-FR" sz="2400" spc="-1" strike="noStrike" baseline="-25000">
                <a:solidFill>
                  <a:srgbClr val="33cc33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fr-FR" sz="2400" spc="-1" strike="noStrike">
                <a:solidFill>
                  <a:srgbClr val="33cc33"/>
                </a:solidFill>
                <a:latin typeface="Arial"/>
              </a:rPr>
              <a:t>mettable</a:t>
            </a:r>
            <a:r>
              <a:rPr b="0" i="1" lang="fr-FR" sz="2400" spc="-1" strike="noStrike" baseline="-25000">
                <a:solidFill>
                  <a:srgbClr val="33cc33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fr-FR" sz="2400" spc="-1" strike="noStrike">
                <a:solidFill>
                  <a:srgbClr val="ff3300"/>
                </a:solidFill>
                <a:latin typeface="Arial"/>
              </a:rPr>
              <a:t>cartable</a:t>
            </a:r>
            <a:r>
              <a:rPr b="0" i="1" lang="fr-FR" sz="24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i="1" lang="fr-FR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fr-FR" sz="2400" spc="-1" strike="noStrike">
                <a:solidFill>
                  <a:srgbClr val="ff3300"/>
                </a:solidFill>
                <a:latin typeface="Arial"/>
              </a:rPr>
              <a:t>vocable</a:t>
            </a:r>
            <a:r>
              <a:rPr b="0" i="1" lang="fr-FR" sz="24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, …</a:t>
            </a:r>
            <a:r>
              <a:rPr b="0" i="1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1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emmatization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rucial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for n</a:t>
            </a:r>
            <a:r>
              <a:rPr b="0" lang="fr-FR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and N</a:t>
            </a:r>
            <a:r>
              <a:rPr b="0" lang="fr-FR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. E.g. in C, </a:t>
            </a:r>
            <a:r>
              <a:rPr b="0" i="1" lang="fr-FR" sz="2400" spc="-1" strike="noStrike">
                <a:solidFill>
                  <a:srgbClr val="003366"/>
                </a:solidFill>
                <a:latin typeface="Arial"/>
              </a:rPr>
              <a:t>mangeable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: 1 occ. ; </a:t>
            </a:r>
            <a:r>
              <a:rPr b="0" i="1" lang="fr-FR" sz="2400" spc="-1" strike="noStrike">
                <a:solidFill>
                  <a:srgbClr val="003366"/>
                </a:solidFill>
                <a:latin typeface="Arial"/>
              </a:rPr>
              <a:t>mangeables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: 1 occ. Without lemmatization: n</a:t>
            </a:r>
            <a:r>
              <a:rPr b="0" lang="fr-FR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= 2; with lemmatization: n</a:t>
            </a:r>
            <a:r>
              <a:rPr b="0" lang="fr-FR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1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imitations of automatic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5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lecting candidate lexemes </a:t>
            </a:r>
            <a:br>
              <a:rPr sz="3200"/>
            </a:br>
            <a:r>
              <a:rPr b="1" i="1" lang="en-GB" sz="3200" spc="-1" strike="noStrike">
                <a:solidFill>
                  <a:srgbClr val="006666"/>
                </a:solidFill>
                <a:latin typeface="Arial"/>
              </a:rPr>
              <a:t>Automatic (pre)processing 2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258920" y="3000240"/>
            <a:ext cx="3408480" cy="3571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838080" y="2362320"/>
            <a:ext cx="377028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11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Figure 1: Raw and manually corrected growth curves for German -</a:t>
            </a:r>
            <a:r>
              <a:rPr b="1" i="1" lang="fr-FR" sz="1200" spc="-1" strike="noStrike">
                <a:solidFill>
                  <a:srgbClr val="003366"/>
                </a:solidFill>
                <a:latin typeface="Arial"/>
              </a:rPr>
              <a:t>sam </a:t>
            </a: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suffixation</a:t>
            </a:r>
            <a:r>
              <a:rPr b="1" i="1" lang="fr-FR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(Lüdeling &amp; Evert 200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761000" y="2362320"/>
            <a:ext cx="420372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Figure 2: Raw and manually corrected growth curves for French -</a:t>
            </a:r>
            <a:r>
              <a:rPr b="1" i="1" lang="fr-FR" sz="1200" spc="-1" strike="noStrike">
                <a:solidFill>
                  <a:srgbClr val="003366"/>
                </a:solidFill>
                <a:latin typeface="Arial"/>
              </a:rPr>
              <a:t>able </a:t>
            </a: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suffixation</a:t>
            </a:r>
            <a:r>
              <a:rPr b="1" i="1" lang="fr-FR" sz="1200" spc="-1" strike="noStrike">
                <a:solidFill>
                  <a:srgbClr val="003366"/>
                </a:solidFill>
                <a:latin typeface="Arial"/>
              </a:rPr>
              <a:t>, Le Monde </a:t>
            </a: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1995 (Grabar </a:t>
            </a:r>
            <a:r>
              <a:rPr b="1" i="1" lang="fr-FR" sz="1200" spc="-1" strike="noStrike">
                <a:solidFill>
                  <a:srgbClr val="003366"/>
                </a:solidFill>
                <a:latin typeface="Arial"/>
              </a:rPr>
              <a:t>&amp; al. </a:t>
            </a: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2006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mage 11" descr="95-1995-taille-v-val.eps"/>
          <p:cNvPicPr/>
          <p:nvPr/>
        </p:nvPicPr>
        <p:blipFill>
          <a:blip r:embed="rId2"/>
          <a:stretch/>
        </p:blipFill>
        <p:spPr>
          <a:xfrm>
            <a:off x="4788000" y="3260880"/>
            <a:ext cx="396072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pied de page 4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lecting candidate lexemes </a:t>
            </a:r>
            <a:br>
              <a:rPr sz="3200"/>
            </a:br>
            <a:r>
              <a:rPr b="1" i="1" lang="en-GB" sz="3200" spc="-1" strike="noStrike">
                <a:solidFill>
                  <a:srgbClr val="006666"/>
                </a:solidFill>
                <a:latin typeface="Arial"/>
              </a:rPr>
              <a:t>Manual (pre)processing 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826920" y="2349360"/>
            <a:ext cx="7920000" cy="3366720"/>
            <a:chOff x="826920" y="2349360"/>
            <a:chExt cx="7920000" cy="3366720"/>
          </a:xfrm>
        </p:grpSpPr>
        <p:sp>
          <p:nvSpPr>
            <p:cNvPr id="126" name="Rectangle 3"/>
            <p:cNvSpPr/>
            <p:nvPr/>
          </p:nvSpPr>
          <p:spPr>
            <a:xfrm>
              <a:off x="4787280" y="4403880"/>
              <a:ext cx="395856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IMMANGEABLE ‘non eatable’ (&lt; MANGEABLE &lt; MANGER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INCOLLABLE (&lt; COLLABLE &lt; COLLER ‘glue’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4"/>
            <p:cNvSpPr/>
            <p:nvPr/>
          </p:nvSpPr>
          <p:spPr>
            <a:xfrm>
              <a:off x="826920" y="4403880"/>
              <a:ext cx="396036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Cat. 3: indirect synchroni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       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nalysabi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5"/>
            <p:cNvSpPr/>
            <p:nvPr/>
          </p:nvSpPr>
          <p:spPr>
            <a:xfrm>
              <a:off x="4787280" y="3375720"/>
              <a:ext cx="395856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3366"/>
                  </a:solidFill>
                  <a:latin typeface="Arial"/>
                </a:rPr>
                <a:t>FRIABLE ‘brittle’ (&lt; lat. FRIABILIS: « that breaks easily »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3366"/>
                  </a:solidFill>
                  <a:latin typeface="Arial"/>
                </a:rPr>
                <a:t>ACCEPTABLE (&lt; lat. ACCEPTABILI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826920" y="3375720"/>
              <a:ext cx="396036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Cat. 2: diachronic analysabi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4787280" y="2349360"/>
              <a:ext cx="395856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CCEPTABLE (&lt; ACCEPTER)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MANGEABLE ‘eatable’ (&lt; MANGER ‘eat’)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8"/>
            <p:cNvSpPr/>
            <p:nvPr/>
          </p:nvSpPr>
          <p:spPr>
            <a:xfrm>
              <a:off x="826920" y="2349360"/>
              <a:ext cx="396036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Cat. 1: synchronic analysability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826920" y="2349360"/>
              <a:ext cx="7918920" cy="1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826920" y="3375720"/>
              <a:ext cx="791892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826920" y="4403880"/>
              <a:ext cx="7918920" cy="10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826920" y="5714640"/>
              <a:ext cx="7918920" cy="1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826920" y="2349360"/>
              <a:ext cx="1440" cy="33652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>
              <a:off x="4787280" y="2349360"/>
              <a:ext cx="1080" cy="102636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5"/>
            <p:cNvSpPr/>
            <p:nvPr/>
          </p:nvSpPr>
          <p:spPr>
            <a:xfrm>
              <a:off x="8745840" y="2349360"/>
              <a:ext cx="1080" cy="33652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6"/>
            <p:cNvSpPr/>
            <p:nvPr/>
          </p:nvSpPr>
          <p:spPr>
            <a:xfrm>
              <a:off x="4787280" y="3375720"/>
              <a:ext cx="1080" cy="2338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4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2"/>
          <p:cNvGrpSpPr/>
          <p:nvPr/>
        </p:nvGrpSpPr>
        <p:grpSpPr>
          <a:xfrm>
            <a:off x="838080" y="2852640"/>
            <a:ext cx="7692840" cy="2957400"/>
            <a:chOff x="838080" y="2852640"/>
            <a:chExt cx="7692840" cy="2957400"/>
          </a:xfrm>
        </p:grpSpPr>
        <p:sp>
          <p:nvSpPr>
            <p:cNvPr id="142" name="Rectangle 3"/>
            <p:cNvSpPr/>
            <p:nvPr/>
          </p:nvSpPr>
          <p:spPr>
            <a:xfrm>
              <a:off x="2410920" y="4620240"/>
              <a:ext cx="61185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33cc33"/>
                  </a:solidFill>
                  <a:latin typeface="Arial"/>
                </a:rPr>
                <a:t>ACCEPT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33cc33"/>
                  </a:solidFill>
                  <a:latin typeface="Arial"/>
                </a:rPr>
                <a:t>MANGE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FRI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33cc33"/>
                  </a:solidFill>
                  <a:latin typeface="Arial"/>
                </a:rPr>
                <a:t>IMMANGE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33cc33"/>
                  </a:solidFill>
                  <a:latin typeface="Arial"/>
                </a:rPr>
                <a:t>INCOLL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838080" y="4620240"/>
              <a:ext cx="1572840" cy="57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1 </a:t>
              </a:r>
              <a:r>
                <a:rPr b="0" lang="en-US" sz="24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 3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2410920" y="5199120"/>
              <a:ext cx="6118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ACCEPT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33cc33"/>
                  </a:solidFill>
                  <a:latin typeface="Arial"/>
                </a:rPr>
                <a:t>MANGE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FRI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IMMANGE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INCOLLABLE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838080" y="5199120"/>
              <a:ext cx="15728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1 </a:t>
              </a:r>
              <a:r>
                <a:rPr b="1" lang="en-US" sz="24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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410920" y="4041000"/>
              <a:ext cx="6118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33cc33"/>
                  </a:solidFill>
                  <a:latin typeface="Arial"/>
                </a:rPr>
                <a:t>ACCEPTABLE, MANGEABLE, FRIABLE, IMMANGEABLE, INCOLL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838080" y="4041000"/>
              <a:ext cx="1572840" cy="579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2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3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2410920" y="3462120"/>
              <a:ext cx="61185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33cc33"/>
                  </a:solidFill>
                  <a:latin typeface="Arial"/>
                </a:rPr>
                <a:t>ACCEPT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33cc33"/>
                  </a:solidFill>
                  <a:latin typeface="Arial"/>
                </a:rPr>
                <a:t>MANGE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33cc33"/>
                  </a:solidFill>
                  <a:latin typeface="Arial"/>
                </a:rPr>
                <a:t>FRI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IMMANGE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INCOLL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838080" y="3462120"/>
              <a:ext cx="1572840" cy="57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1 </a:t>
              </a:r>
              <a:r>
                <a:rPr b="0" lang="en-US" sz="24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 2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>
              <a:off x="2410920" y="2852640"/>
              <a:ext cx="6118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33cc33"/>
                  </a:solidFill>
                  <a:latin typeface="Arial"/>
                </a:rPr>
                <a:t>ACCEPT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33cc33"/>
                  </a:solidFill>
                  <a:latin typeface="Arial"/>
                </a:rPr>
                <a:t>MANGE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FRI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IMMANGEABLE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INCOLLABLE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838080" y="2852640"/>
              <a:ext cx="1572840" cy="6094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838080" y="2852640"/>
              <a:ext cx="7691760" cy="1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838080" y="3462120"/>
              <a:ext cx="7691760" cy="10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5"/>
            <p:cNvSpPr/>
            <p:nvPr/>
          </p:nvSpPr>
          <p:spPr>
            <a:xfrm>
              <a:off x="838080" y="4041000"/>
              <a:ext cx="157284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838080" y="4620240"/>
              <a:ext cx="1572840" cy="10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7"/>
            <p:cNvSpPr/>
            <p:nvPr/>
          </p:nvSpPr>
          <p:spPr>
            <a:xfrm>
              <a:off x="838080" y="5808960"/>
              <a:ext cx="7691760" cy="10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8"/>
            <p:cNvSpPr/>
            <p:nvPr/>
          </p:nvSpPr>
          <p:spPr>
            <a:xfrm>
              <a:off x="838080" y="2852640"/>
              <a:ext cx="1440" cy="295632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2410920" y="2852640"/>
              <a:ext cx="1440" cy="11883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2410920" y="4041000"/>
              <a:ext cx="6118560" cy="144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>
              <a:off x="2410920" y="4620240"/>
              <a:ext cx="1440" cy="11883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2"/>
            <p:cNvSpPr/>
            <p:nvPr/>
          </p:nvSpPr>
          <p:spPr>
            <a:xfrm>
              <a:off x="2410920" y="4041000"/>
              <a:ext cx="1440" cy="57924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23"/>
            <p:cNvSpPr/>
            <p:nvPr/>
          </p:nvSpPr>
          <p:spPr>
            <a:xfrm>
              <a:off x="8529840" y="4041000"/>
              <a:ext cx="1080" cy="57924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529840" y="2852640"/>
              <a:ext cx="1080" cy="1188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>
              <a:off x="8529840" y="4620240"/>
              <a:ext cx="1080" cy="1188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>
              <a:off x="2410920" y="4620240"/>
              <a:ext cx="6118560" cy="108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27"/>
            <p:cNvSpPr/>
            <p:nvPr/>
          </p:nvSpPr>
          <p:spPr>
            <a:xfrm>
              <a:off x="838080" y="5199120"/>
              <a:ext cx="157284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28"/>
            <p:cNvSpPr/>
            <p:nvPr/>
          </p:nvSpPr>
          <p:spPr>
            <a:xfrm>
              <a:off x="2410920" y="5199120"/>
              <a:ext cx="6118560" cy="144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electing candidate lexemes </a:t>
            </a:r>
            <a:br>
              <a:rPr sz="3600"/>
            </a:br>
            <a:r>
              <a:rPr b="1" i="1" lang="en-GB" sz="3600" spc="-1" strike="noStrike">
                <a:solidFill>
                  <a:srgbClr val="006666"/>
                </a:solidFill>
                <a:latin typeface="Arial"/>
              </a:rPr>
              <a:t>Manual (pre)processing 2/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3040" y="660240"/>
            <a:ext cx="77756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Illust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13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gure 3: French -</a:t>
            </a:r>
            <a:r>
              <a:rPr b="1" i="1" lang="fr-FR" sz="1400" spc="-1" strike="noStrike">
                <a:solidFill>
                  <a:srgbClr val="003366"/>
                </a:solidFill>
                <a:latin typeface="Arial"/>
              </a:rPr>
              <a:t>able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 suffixation in </a:t>
            </a:r>
            <a:r>
              <a:rPr b="1" i="1" lang="fr-FR" sz="1400" spc="-1" strike="noStrike">
                <a:solidFill>
                  <a:srgbClr val="003366"/>
                </a:solidFill>
                <a:latin typeface="Arial"/>
              </a:rPr>
              <a:t>Le Monde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 1995, cat. [1], [1+2], [1+2+3], [1+3], [1-2] (section « France »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13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4864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5791320" y="6248520"/>
            <a:ext cx="289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ournée ATALA 10/11/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xperimental setup and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terial (affixes, corpo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104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arious factors influencing the productivity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perience feedback for the N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clusion &amp; Persp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orgette</cp:lastModifiedBy>
  <dcterms:modified xsi:type="dcterms:W3CDTF">2007-11-09T18:15:13Z</dcterms:modified>
  <cp:revision>48</cp:revision>
  <dc:subject/>
  <dc:title>Quelques préalables au calcul de la productivité des règles con</dc:title>
</cp:coreProperties>
</file>